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FA56-1CE2-460C-836D-438EE6DCB53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10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4B15-7537-4DF2-8C20-1EF4676396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700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2040" y="4377960"/>
            <a:ext cx="504648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aspecto genérico que se recomienda para el resto de transparenci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APOSITIVAS DE LA PONENCI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La estructura, formato y colores de los textos que se vayan incorporando al crear nuevas diapositivas están definidos en el patr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modificar el “PONENTE”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Debe hacerse directamente sobre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 Para ello, basta con ir a la opción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VER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, y dentro de ahí a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 y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. Una vez allí, podremos modificar el texto en cues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incluir otros LOGOS o instituciones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Recomendamos simplicidad y sintonía de co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Si otras instituciones deben figurar en la presentación, podremos incluir los logos (preferiblemente “logos” en vez de nombres) de las mismas en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Para ello, basta con ir a la opción “VER”, y dentro de ahí a “PATRÓN” y “PATRÓN DE DIAPOSITIVAS”. Una vez allí, incluir los logos pertin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125880" y="8263080"/>
            <a:ext cx="624960" cy="567720"/>
            <a:chOff x="3125880" y="8263080"/>
            <a:chExt cx="624960" cy="567720"/>
          </a:xfrm>
        </p:grpSpPr>
        <p:sp>
          <p:nvSpPr>
            <p:cNvPr id="340" name=""/>
            <p:cNvSpPr/>
            <p:nvPr/>
          </p:nvSpPr>
          <p:spPr>
            <a:xfrm>
              <a:off x="3130920" y="8267400"/>
              <a:ext cx="619920" cy="56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200" rIns="882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3125880" y="8263080"/>
              <a:ext cx="620280" cy="5637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04B8-2807-407C-8CF0-0554C84C7A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0840-FAAF-43DE-92D3-0877ADD1AE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556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2040" y="4377960"/>
            <a:ext cx="504792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aspecto genérico que se recomienda para el resto de transparenci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APOSITIVAS DE LA PONENCI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La estructura, formato y colores de los textos que se vayan incorporando al crear nuevas diapositivas están definidos en el patr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modificar el “PONENTE”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Debe hacerse directamente sobre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 Para ello, basta con ir a la opción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VER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, y dentro de ahí a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 y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. Una vez allí, podremos modificar el texto en cues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incluir otros LOGOS o instituciones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Recomendamos simplicidad y sintonía de co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Si otras instituciones deben figurar en la presentación, podremos incluir los logos (preferiblemente “logos” en vez de nombres) de las mismas en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Para ello, basta con ir a la opción “VER”, y dentro de ahí a “PATRÓN” y “PATRÓN DE DIAPOSITIVAS”. Una vez allí, incluir los logos pertin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125880" y="8263080"/>
            <a:ext cx="624960" cy="569520"/>
            <a:chOff x="3125880" y="8263080"/>
            <a:chExt cx="624960" cy="569520"/>
          </a:xfrm>
        </p:grpSpPr>
        <p:sp>
          <p:nvSpPr>
            <p:cNvPr id="322" name=""/>
            <p:cNvSpPr/>
            <p:nvPr/>
          </p:nvSpPr>
          <p:spPr>
            <a:xfrm>
              <a:off x="3130920" y="8267400"/>
              <a:ext cx="619920" cy="56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3125880" y="8263080"/>
              <a:ext cx="620280" cy="5655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20CE-8E79-4364-8437-B0180A88BE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97000" y="706320"/>
            <a:ext cx="4519440" cy="33894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32040" y="4377960"/>
            <a:ext cx="504648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te es el aspecto genérico que se recomienda para el resto de transparencias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DIAPOSITIVAS DE LA PONENCI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La estructura, formato y colores de los textos que se vayan incorporando al crear nuevas diapositivas están definidos en el patr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modificar el “PONENTE”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Debe hacerse directamente sobre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 Para ello, basta con ir a la opción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VER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, y dentro de ahí a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 y “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”. Una vez allí, podremos modificar el texto en cuest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66"/>
                </a:solidFill>
                <a:latin typeface="Arial"/>
              </a:rPr>
              <a:t>Para incluir otros LOGOS o instituciones en esta diapositiv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Recomendamos simplicidad y sintonía de col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Si otras instituciones deben figurar en la presentación, podremos incluir los logos (preferiblemente “logos” en vez de nombres) de las mismas en el </a:t>
            </a:r>
            <a:r>
              <a:rPr b="0" i="1" lang="es-ES_tradnl" sz="1200" spc="-1" strike="noStrike">
                <a:solidFill>
                  <a:srgbClr val="000066"/>
                </a:solidFill>
                <a:latin typeface="Arial"/>
              </a:rPr>
              <a:t>PATRÓN DE  DIAPOSITIVA</a:t>
            </a: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66"/>
                </a:solidFill>
                <a:latin typeface="Arial"/>
              </a:rPr>
              <a:t>Para ello, basta con ir a la opción “VER”, y dentro de ahí a “PATRÓN” y “PATRÓN DE DIAPOSITIVAS”. Una vez allí, incluir los logos pertin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125880" y="8263080"/>
            <a:ext cx="624960" cy="567720"/>
            <a:chOff x="3125880" y="8263080"/>
            <a:chExt cx="624960" cy="567720"/>
          </a:xfrm>
        </p:grpSpPr>
        <p:sp>
          <p:nvSpPr>
            <p:cNvPr id="331" name=""/>
            <p:cNvSpPr/>
            <p:nvPr/>
          </p:nvSpPr>
          <p:spPr>
            <a:xfrm>
              <a:off x="3130920" y="8267400"/>
              <a:ext cx="619920" cy="563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200" rIns="882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82720"/>
                  <a:tab algn="l" pos="1765440"/>
                  <a:tab algn="l" pos="2647800"/>
                  <a:tab algn="l" pos="3530520"/>
                  <a:tab algn="l" pos="4413240"/>
                  <a:tab algn="l" pos="5295960"/>
                  <a:tab algn="l" pos="6178680"/>
                  <a:tab algn="l" pos="7061040"/>
                  <a:tab algn="l" pos="7943760"/>
                  <a:tab algn="l" pos="8826480"/>
                  <a:tab algn="l" pos="9709200"/>
                  <a:tab algn="l" pos="105919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3125880" y="8263080"/>
              <a:ext cx="620280" cy="563760"/>
            </a:xfrm>
            <a:prstGeom prst="rect">
              <a:avLst/>
            </a:prstGeom>
            <a:ln w="0">
              <a:noFill/>
            </a:ln>
          </p:spPr>
        </p:pic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10C-3C79-4B35-940E-C463DD67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5280" y="3908880"/>
            <a:ext cx="82915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0B4-DAD9-4A11-ACE6-A1C51487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528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400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5943-E4B7-4520-B9A8-B575F6D2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98960" y="14842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02640" y="14842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95280" y="39088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98960" y="39088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02640" y="3908880"/>
            <a:ext cx="266976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D3E-35B6-4054-B165-98B6BFC3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D9D2-90D5-424D-9082-5AA30159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B30-E8E2-4151-ABF0-6D939D1F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C1C-FFEA-4ABE-B067-D9F576AE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5C49-3A8F-49A2-9A24-17566E2F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340000" y="274320"/>
            <a:ext cx="5472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78A3-BE6C-4937-A3E9-89C2615F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7BF-9494-4EE6-89A0-103AC08A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4000" y="39088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B239-55C0-46D0-A64C-D5E94DAC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000" y="1484280"/>
            <a:ext cx="404604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908880"/>
            <a:ext cx="829152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6D0-2DAB-4CE7-8384-7ADE51E2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484280"/>
            <a:ext cx="8291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rching, 12-16/09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. Collados, I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75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tectors for Astronomy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CEDD-EFB2-492F-B310-33CF4ADA0D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8229600" cy="142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6235560"/>
            <a:ext cx="8496360" cy="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2016000" cy="109836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8244000" y="260280"/>
            <a:ext cx="856800" cy="864360"/>
            <a:chOff x="8244000" y="260280"/>
            <a:chExt cx="856800" cy="864360"/>
          </a:xfrm>
        </p:grpSpPr>
        <p:sp>
          <p:nvSpPr>
            <p:cNvPr id="10" name=""/>
            <p:cNvSpPr/>
            <p:nvPr/>
          </p:nvSpPr>
          <p:spPr>
            <a:xfrm>
              <a:off x="8250840" y="267120"/>
              <a:ext cx="849960" cy="857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4"/>
            <a:stretch/>
          </p:blipFill>
          <p:spPr>
            <a:xfrm>
              <a:off x="8244000" y="260280"/>
              <a:ext cx="850320" cy="858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Modern Detectors in 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high-resolution ground-based</a:t>
            </a:r>
            <a:br>
              <a:rPr sz="4000"/>
            </a:b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observational Solar Phy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. Coll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ituto de Astrofísica de Can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Solar Tele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058480" y="103320"/>
            <a:ext cx="63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mporal evolution (chromosph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71640" y="719280"/>
            <a:ext cx="7518240" cy="585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E01-DA16-46AD-829B-91B2ACC0438C}" type="slidenum">
              <a:t>10</a:t>
            </a:fld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930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29" descr="sunspot_cont_cak"/>
          <p:cNvPicPr/>
          <p:nvPr/>
        </p:nvPicPr>
        <p:blipFill>
          <a:blip r:embed="rId1"/>
          <a:stretch/>
        </p:blipFill>
        <p:spPr>
          <a:xfrm>
            <a:off x="108000" y="1436760"/>
            <a:ext cx="8901000" cy="4513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35280" y="587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Phot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7640" y="5877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hro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F4B8-A519-457D-865E-F8481EE184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39640" y="1954080"/>
            <a:ext cx="8209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Simultaneous observation of different solar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Highest spatial resolution (0.04” @ 500 n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Temporal evolution at different solar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Magnetic field stratification </a:t>
            </a:r>
            <a:r>
              <a:rPr b="0" lang="es-ES" sz="22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Polarimetric measu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Magnetic field evolution at different solar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Magnetic coupling of the solar atmosp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49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9640" y="54450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MULTANEOUS USE OF DIFFERENT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IENCE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38BA-DBEA-47F9-8869-D6C0F14CD7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00000" y="358920"/>
            <a:ext cx="8167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Polarimetric techn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96800" y="1735200"/>
            <a:ext cx="6559560" cy="1798560"/>
            <a:chOff x="1396800" y="1735200"/>
            <a:chExt cx="6559560" cy="1798560"/>
          </a:xfrm>
        </p:grpSpPr>
        <p:grpSp>
          <p:nvGrpSpPr>
            <p:cNvPr id="164" name=""/>
            <p:cNvGrpSpPr/>
            <p:nvPr/>
          </p:nvGrpSpPr>
          <p:grpSpPr>
            <a:xfrm>
              <a:off x="2469600" y="1735200"/>
              <a:ext cx="5327640" cy="1798560"/>
              <a:chOff x="2469600" y="1735200"/>
              <a:chExt cx="5327640" cy="1798560"/>
            </a:xfrm>
          </p:grpSpPr>
          <p:sp>
            <p:nvSpPr>
              <p:cNvPr id="165" name=""/>
              <p:cNvSpPr/>
              <p:nvPr/>
            </p:nvSpPr>
            <p:spPr>
              <a:xfrm>
                <a:off x="7672680" y="1735200"/>
                <a:ext cx="12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778160" y="1735200"/>
                <a:ext cx="0" cy="1395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70200" y="1735200"/>
                <a:ext cx="12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279560" y="1735200"/>
                <a:ext cx="0" cy="1394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69600" y="3056040"/>
                <a:ext cx="1061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Pol.</a:t>
                </a:r>
                <a:r>
                  <a:rPr b="1" lang="es-ES_tradnl" sz="2000" spc="-1" strike="noStrike">
                    <a:solidFill>
                      <a:srgbClr val="ff66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18800" y="3042360"/>
                <a:ext cx="1249200" cy="49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 (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906800" y="3042360"/>
                <a:ext cx="1246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R (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1" lang="es-ES_tradnl" sz="2000" spc="-1" strike="noStrike">
                    <a:solidFill>
                      <a:srgbClr val="ff6600"/>
                    </a:solidFill>
                    <a:latin typeface="Times New Roman"/>
                  </a:rPr>
                  <a:t>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7662240" y="3129840"/>
              <a:ext cx="12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60480" y="3129840"/>
              <a:ext cx="12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6019920" y="2432520"/>
              <a:ext cx="1062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07760" y="1996560"/>
              <a:ext cx="374760" cy="9586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20840" y="1996560"/>
              <a:ext cx="374760" cy="9586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71640" y="1996560"/>
              <a:ext cx="374760" cy="958680"/>
            </a:xfrm>
            <a:prstGeom prst="rect">
              <a:avLst/>
            </a:prstGeom>
            <a:solidFill>
              <a:srgbClr val="bbe0e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396800" y="2476080"/>
              <a:ext cx="1061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47000" y="2084760"/>
              <a:ext cx="811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tra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30680" y="1822320"/>
              <a:ext cx="625680" cy="13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06440" y="3441600"/>
            <a:ext cx="6073920" cy="1859040"/>
            <a:chOff x="1306440" y="3441600"/>
            <a:chExt cx="6073920" cy="1859040"/>
          </a:xfrm>
        </p:grpSpPr>
        <p:sp>
          <p:nvSpPr>
            <p:cNvPr id="182" name=""/>
            <p:cNvSpPr/>
            <p:nvPr/>
          </p:nvSpPr>
          <p:spPr>
            <a:xfrm>
              <a:off x="1306440" y="4138560"/>
              <a:ext cx="60739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Times New Roman"/>
                </a:rPr>
                <a:t>trans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= [1  1  0  0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R 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) R (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852240" y="3441600"/>
              <a:ext cx="0" cy="185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39200" y="3441600"/>
              <a:ext cx="13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9200" y="5300640"/>
              <a:ext cx="13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120" y="3441600"/>
              <a:ext cx="1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324120" y="3441600"/>
              <a:ext cx="0" cy="1859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14400" y="5300640"/>
              <a:ext cx="13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90000" y="3557520"/>
              <a:ext cx="660240" cy="164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6000" y="40766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717560" y="5300640"/>
            <a:ext cx="5375520" cy="703440"/>
            <a:chOff x="1717560" y="5300640"/>
            <a:chExt cx="5375520" cy="703440"/>
          </a:xfrm>
        </p:grpSpPr>
        <p:sp>
          <p:nvSpPr>
            <p:cNvPr id="192" name=""/>
            <p:cNvSpPr/>
            <p:nvPr/>
          </p:nvSpPr>
          <p:spPr>
            <a:xfrm>
              <a:off x="1717560" y="5300640"/>
              <a:ext cx="838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s-ES_tradnl" sz="40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74920" y="5516640"/>
              <a:ext cx="471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N =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 I =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N    // 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 M</a:t>
              </a: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373480" y="537372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76560" y="536256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02160" y="534528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89400" y="5362560"/>
              <a:ext cx="30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0C9-06A1-4521-9C5B-30588A0534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INSTR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1413000"/>
            <a:ext cx="79930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tr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Broad-band im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Narrow-band tunable filter spectropolari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Grating spectropolarim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3357720"/>
            <a:ext cx="7993080" cy="29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umber of instrument chann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Broad-band imager: 3 (goal 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Visible narrow-band filter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lt;1100 nm): up to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NIR narrow-band filter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gt;700 nm): up to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Visible spectrograph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lt;1100 nm): up to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375"/>
              </a:spcBef>
              <a:buClr>
                <a:srgbClr val="0000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NIR spectrograph (</a:t>
            </a:r>
            <a:r>
              <a:rPr b="0" lang="el-GR" sz="2200" spc="-1" strike="noStrike">
                <a:solidFill>
                  <a:srgbClr val="000099"/>
                </a:solidFill>
                <a:latin typeface="Arial"/>
              </a:rPr>
              <a:t>λ</a:t>
            </a:r>
            <a:r>
              <a:rPr b="0" lang="es-ES" sz="2200" spc="-1" strike="noStrike">
                <a:solidFill>
                  <a:srgbClr val="000099"/>
                </a:solidFill>
                <a:latin typeface="Arial"/>
              </a:rPr>
              <a:t>&gt;700 nm): up to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063-C40F-499B-9396-0403580AC0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356000" y="6568920"/>
            <a:ext cx="1360440" cy="2890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24280" y="6545160"/>
            <a:ext cx="1290600" cy="312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966920" y="3227400"/>
            <a:ext cx="2430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64040" y="3227400"/>
            <a:ext cx="2430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5300640"/>
            <a:ext cx="339840" cy="9144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87880" y="4175280"/>
            <a:ext cx="218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5070600"/>
            <a:ext cx="8532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9800" y="32130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1800" y="424656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00720" y="4076640"/>
            <a:ext cx="70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75-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352760" y="3257640"/>
            <a:ext cx="2448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6320" y="5319720"/>
            <a:ext cx="341280" cy="912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0" y="34290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25/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ubL"/>
          <p:cNvSpPr/>
          <p:nvPr/>
        </p:nvSpPr>
        <p:spPr>
          <a:xfrm rot="5400000">
            <a:off x="6731280" y="1916640"/>
            <a:ext cx="1271520" cy="2279880"/>
          </a:xfrm>
          <a:custGeom>
            <a:avLst/>
            <a:gdLst>
              <a:gd name="textAreaLeft" fmla="*/ 0 w 1271520"/>
              <a:gd name="textAreaRight" fmla="*/ 1271520 w 1271520"/>
              <a:gd name="textAreaTop" fmla="*/ 1467720 h 2279880"/>
              <a:gd name="textAreaBottom" fmla="*/ 2280240 h 227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3904"/>
                </a:lnTo>
                <a:lnTo>
                  <a:pt x="10800" y="13904"/>
                </a:lnTo>
                <a:lnTo>
                  <a:pt x="10800" y="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21440" y="3500280"/>
            <a:ext cx="32220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ubL"/>
          <p:cNvSpPr/>
          <p:nvPr/>
        </p:nvSpPr>
        <p:spPr>
          <a:xfrm rot="16200000">
            <a:off x="6701400" y="3900960"/>
            <a:ext cx="1843200" cy="1543320"/>
          </a:xfrm>
          <a:custGeom>
            <a:avLst/>
            <a:gdLst>
              <a:gd name="textAreaLeft" fmla="*/ 0 w 1843200"/>
              <a:gd name="textAreaRight" fmla="*/ 1843560 w 1843200"/>
              <a:gd name="textAreaTop" fmla="*/ 771840 h 1543320"/>
              <a:gd name="textAreaBottom" fmla="*/ 1543680 h 154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4320" y="2919240"/>
            <a:ext cx="141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NI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700-9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81400" y="407196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NI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900-11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60720" y="3232080"/>
            <a:ext cx="2412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8160" y="33400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7600" y="2492280"/>
            <a:ext cx="10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208040" y="2490840"/>
            <a:ext cx="24444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ubL"/>
          <p:cNvSpPr/>
          <p:nvPr/>
        </p:nvSpPr>
        <p:spPr>
          <a:xfrm rot="5400000">
            <a:off x="4558680" y="604440"/>
            <a:ext cx="1270080" cy="2279880"/>
          </a:xfrm>
          <a:custGeom>
            <a:avLst/>
            <a:gdLst>
              <a:gd name="textAreaLeft" fmla="*/ 0 w 1270080"/>
              <a:gd name="textAreaRight" fmla="*/ 1270440 w 1270080"/>
              <a:gd name="textAreaTop" fmla="*/ 1467720 h 2279880"/>
              <a:gd name="textAreaBottom" fmla="*/ 2280240 h 227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3904"/>
                </a:lnTo>
                <a:lnTo>
                  <a:pt x="10800" y="13904"/>
                </a:lnTo>
                <a:lnTo>
                  <a:pt x="10800" y="0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84720" y="1413000"/>
            <a:ext cx="21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1 (390-55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44880" y="2390760"/>
            <a:ext cx="1397160" cy="317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B1 CaII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81400" y="3227400"/>
            <a:ext cx="2426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3385440" y="1807560"/>
            <a:ext cx="380880" cy="1033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8660000">
            <a:off x="2836800" y="1982520"/>
            <a:ext cx="1139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B3 H</a:t>
            </a:r>
            <a:r>
              <a:rPr b="1" lang="es-E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CaII 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69680" y="62182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P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33440" y="6254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PN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3227400"/>
            <a:ext cx="2444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ubL"/>
          <p:cNvSpPr/>
          <p:nvPr/>
        </p:nvSpPr>
        <p:spPr>
          <a:xfrm rot="5400000">
            <a:off x="1639440" y="3342960"/>
            <a:ext cx="1334880" cy="2217960"/>
          </a:xfrm>
          <a:custGeom>
            <a:avLst/>
            <a:gdLst>
              <a:gd name="textAreaLeft" fmla="*/ 0 w 1334880"/>
              <a:gd name="textAreaRight" fmla="*/ 1335240 w 1334880"/>
              <a:gd name="textAreaTop" fmla="*/ 1427760 h 2217960"/>
              <a:gd name="textAreaBottom" fmla="*/ 2218320 h 221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3904"/>
                </a:lnTo>
                <a:lnTo>
                  <a:pt x="10800" y="13904"/>
                </a:lnTo>
                <a:lnTo>
                  <a:pt x="10800" y="0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ubL"/>
          <p:cNvSpPr/>
          <p:nvPr/>
        </p:nvSpPr>
        <p:spPr>
          <a:xfrm rot="5400000">
            <a:off x="10440" y="2643120"/>
            <a:ext cx="3112920" cy="1094040"/>
          </a:xfrm>
          <a:custGeom>
            <a:avLst/>
            <a:gdLst>
              <a:gd name="textAreaLeft" fmla="*/ 0 w 3112920"/>
              <a:gd name="textAreaRight" fmla="*/ 3113280 w 3112920"/>
              <a:gd name="textAreaTop" fmla="*/ 547200 h 1094040"/>
              <a:gd name="textAreaBottom" fmla="*/ 1094400 h 10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6995" y="10800"/>
                </a:lnTo>
                <a:lnTo>
                  <a:pt x="6995" y="0"/>
                </a:lnTo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84360" y="220500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0-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29080" y="249228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0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11280" y="3052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10-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6320" y="292428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47600" y="4270320"/>
            <a:ext cx="187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2 (550-7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0240" y="320976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700-1100 n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489560" y="3382920"/>
            <a:ext cx="0" cy="187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4920" y="56545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wer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94320" y="16938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pper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70160" y="61452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eam from tele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02280" y="2446200"/>
            <a:ext cx="0" cy="3747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192480" y="2276640"/>
            <a:ext cx="947880" cy="10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2280" y="2820960"/>
            <a:ext cx="0" cy="137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0228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2280" y="2133720"/>
            <a:ext cx="0" cy="31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2280" y="1446120"/>
            <a:ext cx="0" cy="6876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5102280" y="1133640"/>
            <a:ext cx="0" cy="31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746360" y="3355920"/>
            <a:ext cx="334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2500200" y="2508120"/>
            <a:ext cx="662040" cy="84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777680" y="3360600"/>
            <a:ext cx="3920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2720" y="3232080"/>
            <a:ext cx="2412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3225960"/>
            <a:ext cx="2444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24600" y="4037040"/>
            <a:ext cx="243000" cy="25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019920" y="4049640"/>
            <a:ext cx="2426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02280" y="944640"/>
            <a:ext cx="0" cy="53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4189680" y="2446920"/>
            <a:ext cx="380880" cy="1033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8660000">
            <a:off x="3591000" y="2626920"/>
            <a:ext cx="1139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aII 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24280" y="2381400"/>
            <a:ext cx="2430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76640" y="4051440"/>
            <a:ext cx="24300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41960" y="2374920"/>
            <a:ext cx="2426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94720" y="34527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NI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02280" y="3330720"/>
            <a:ext cx="0" cy="53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76680" y="299232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VI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671720" y="335772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196440" y="3026880"/>
            <a:ext cx="277920" cy="331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75680" y="28144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B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894320" y="3335040"/>
            <a:ext cx="265680" cy="340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750680" y="3357720"/>
            <a:ext cx="43164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058480" y="34592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GREEN-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94520" y="29973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90120" y="10332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 Simultaneous instr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D959-1D88-4A0D-8BCE-FD85837677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4360" y="1386000"/>
            <a:ext cx="7993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ferent instruments require different det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1944720"/>
            <a:ext cx="79930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mon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Integration time &lt; 10 ms (to freeze atmosphe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Global shutter (same atmospheric degradation at all pix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4 k x 4k (1 x 1 arcmin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for optimum resolution with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instruments; and largest FOV for 2D spectrograp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Expected flux: (~2 - 4 Me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/px/s)</a:t>
            </a: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Well depth &gt; 40000 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hoton-noise limited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read noise &lt; 1/3 * noise (5-10% w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epth)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read noise &lt; 15 e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9F1-F9D5-4719-8B20-80E3FC7E19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4360" y="1700280"/>
            <a:ext cx="79930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mon requirements (cont’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ark current: few e</a:t>
            </a: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-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ixel size: 10-20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Wavelength range: 390 -1600 nm (2300 n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14 bits/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QE: as large as possible; &gt; 60% (B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&gt; 90% (V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                               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&gt; 50% (N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Good (and stable) cosm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89000"/>
            <a:ext cx="910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239-041A-41C4-95F3-F07EAA25DD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4280"/>
            <a:ext cx="91076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 DETECTOR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OAD-BAND IMA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4360" y="1944720"/>
            <a:ext cx="7993080" cy="30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ticular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Frame rate: 30-100 fr/s, for post-facto reconstru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techniques (speckle, MOMFB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imultaneous exposure of all chann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(to better than 1 ms)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simultaneous trigg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6610-641C-449E-B9BE-C1F81186F1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03280" y="44280"/>
            <a:ext cx="7704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ECTORS FOR POLARIMETRY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IMAGERS AND 2D SPECTROGRA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1501920"/>
            <a:ext cx="799308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ticular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Dead time between exposures: 0 ms (photons are sca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for polarimetry; signals are tremendously sma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Frame rate: 100 fr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imultaneous exposure of all channels (to better t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1 ms) </a:t>
            </a:r>
            <a:r>
              <a:rPr b="1" lang="es-E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simultaneous trigg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olarization modulation on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Polarization modulation frequency &gt;&gt; frame rate; K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Number of modulation states: 4 to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B3F-491D-456B-A9DC-675D86E8FB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ajor Groundbased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lar Observ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31920" y="2021040"/>
            <a:ext cx="7448400" cy="4305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2760" y="3559320"/>
            <a:ext cx="21744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5166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7040" y="34988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2160" y="351792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47840" y="353052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65560" y="379080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19400" y="3797280"/>
            <a:ext cx="21780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1320" y="326376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70640" y="298440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57960" y="3535200"/>
            <a:ext cx="217440" cy="21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280" y="5877000"/>
            <a:ext cx="21744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03800" y="3860640"/>
            <a:ext cx="217800" cy="21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4320" y="38750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cc33"/>
                </a:solidFill>
                <a:latin typeface="Arial"/>
              </a:rPr>
              <a:t>ATST 4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3429000"/>
            <a:ext cx="14302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BB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NSO K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NSO S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95680" y="2673360"/>
            <a:ext cx="905040" cy="10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S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THEM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V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D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GREGOR</a:t>
            </a:r>
            <a:r>
              <a:rPr b="0" lang="de-DE" sz="1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19360" y="4005360"/>
            <a:ext cx="11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cc33"/>
                </a:solidFill>
                <a:latin typeface="Arial"/>
              </a:rPr>
              <a:t>EST  4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00996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Crim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5320" y="272412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Baik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0" y="352116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H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96120" y="378468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6600"/>
                </a:solidFill>
                <a:latin typeface="Arial"/>
              </a:rPr>
              <a:t>Huair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03920" y="35672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3645000"/>
            <a:ext cx="1295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de-DE" sz="1200" spc="-1" strike="noStrike">
                <a:solidFill>
                  <a:srgbClr val="00ff00"/>
                </a:solidFill>
                <a:latin typeface="Arial"/>
              </a:rPr>
              <a:t>Himalya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ff00"/>
                </a:solidFill>
                <a:latin typeface="Arial"/>
              </a:rPr>
              <a:t>Udaipur 0.5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57640" y="37418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05360" y="374184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645000"/>
            <a:ext cx="217440" cy="214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4200" y="5445000"/>
            <a:ext cx="107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6600"/>
                </a:solidFill>
                <a:latin typeface="Arial"/>
              </a:rPr>
              <a:t>exi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ff00"/>
                </a:solidFill>
                <a:latin typeface="Arial"/>
              </a:rPr>
              <a:t>pl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02560" y="3213000"/>
            <a:ext cx="217440" cy="214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0360" y="31878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ff00"/>
                </a:solidFill>
                <a:latin typeface="Arial"/>
              </a:rPr>
              <a:t>Fuxian 1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4560" y="3789360"/>
            <a:ext cx="21780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84720" y="3789360"/>
            <a:ext cx="217440" cy="214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7B49-31DC-4CF3-8AC2-6709F4573AD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40000" y="333360"/>
            <a:ext cx="54720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876240" y="205416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726080" y="2054160"/>
            <a:ext cx="3352680" cy="2743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392120" y="5300640"/>
            <a:ext cx="60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VTT Tenerife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F0B-3B6B-47E6-A217-B5BEB173380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846520" y="333360"/>
            <a:ext cx="4781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 AO Wavefront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2637000"/>
            <a:ext cx="3456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ometry for high order on-axis W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cm subapertur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852 subapertures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V: 10´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851280" y="1523880"/>
            <a:ext cx="4944960" cy="4559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AC3-3281-4973-8107-18480E10656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39640" y="475920"/>
            <a:ext cx="576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ulti-Conjugate 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92120" y="5654520"/>
            <a:ext cx="609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VTT Tenerife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177336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71640" y="4941720"/>
            <a:ext cx="11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AO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7400" y="4933800"/>
            <a:ext cx="22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Conventional 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48360" y="486900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M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9FB5-0D92-4C5C-9258-D4AA1E9399D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39640" y="475920"/>
            <a:ext cx="5761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Multi-Conjugate Adaptive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767280" cy="22701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403280" y="3789360"/>
            <a:ext cx="3962520" cy="2390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5651640" y="4221000"/>
            <a:ext cx="273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Wide-field wave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E23-15B4-4250-A2AE-F47EB3D0C2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11280" y="2637000"/>
            <a:ext cx="3456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ometry for low ord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-axis W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1cm subapertur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 subapertures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V: 70´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989520" y="1584360"/>
            <a:ext cx="4686120" cy="4478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705040" y="333360"/>
            <a:ext cx="5332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 MCAO Wavefront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5B8F-F32D-42C7-B2A3-2639E34E387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4360" y="1501920"/>
            <a:ext cx="7993080" cy="41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bits/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00 μs readout time (max), goal: 300 μs (2000-3000 fr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lobal sh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200 μs exposure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lt; 70e- readout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0000e- full well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1024x1024 pixel (minimum); 1300x1300 pixel (go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MCA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2300x2300 pix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3600" y="333360"/>
            <a:ext cx="4875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ST AO &amp; MCAO Wavefro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nsor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3A0-F204-497E-8FCB-A7224389F93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5280" y="1382760"/>
            <a:ext cx="8497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spatial resolution and large FOV lead to large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mospheric turbulence makes it necessary to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hort integration times ( &lt; 10 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age reconstruction techniques require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ation better than 1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larization signals induced by the magnetic field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low, typically of the order of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-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the ob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nsit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ise sources have to be reduced to a 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larization measurements are better if modulation is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the pixel and at a high frequency (kHz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CAO requires very fast large-format det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32600" y="333360"/>
            <a:ext cx="2700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7EE-9D0A-43E7-B52C-16D6880C8A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35480" y="44280"/>
            <a:ext cx="516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perture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38760" y="1606680"/>
            <a:ext cx="89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V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7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3080" y="1612800"/>
            <a:ext cx="89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D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4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24600" y="1584360"/>
            <a:ext cx="1197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GREG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1.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600960" y="2322360"/>
          <a:ext cx="192564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0960" y="2322360"/>
                    <a:ext cx="19256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" name=""/>
          <p:cNvGrpSpPr/>
          <p:nvPr/>
        </p:nvGrpSpPr>
        <p:grpSpPr>
          <a:xfrm>
            <a:off x="981000" y="2960640"/>
            <a:ext cx="579600" cy="579600"/>
            <a:chOff x="981000" y="2960640"/>
            <a:chExt cx="579600" cy="579600"/>
          </a:xfrm>
        </p:grpSpPr>
        <p:graphicFrame>
          <p:nvGraphicFramePr>
            <p:cNvPr id="96" name=""/>
            <p:cNvGraphicFramePr/>
            <p:nvPr/>
          </p:nvGraphicFramePr>
          <p:xfrm>
            <a:off x="981000" y="2960640"/>
            <a:ext cx="579600" cy="579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81000" y="2960640"/>
                      <a:ext cx="57960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" name=""/>
            <p:cNvSpPr/>
            <p:nvPr/>
          </p:nvSpPr>
          <p:spPr>
            <a:xfrm>
              <a:off x="1230120" y="3214080"/>
              <a:ext cx="802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60640" y="2795760"/>
            <a:ext cx="900000" cy="964800"/>
            <a:chOff x="2060640" y="2795760"/>
            <a:chExt cx="900000" cy="964800"/>
          </a:xfrm>
        </p:grpSpPr>
        <p:graphicFrame>
          <p:nvGraphicFramePr>
            <p:cNvPr id="100" name=""/>
            <p:cNvGraphicFramePr/>
            <p:nvPr/>
          </p:nvGraphicFramePr>
          <p:xfrm>
            <a:off x="2060640" y="2795760"/>
            <a:ext cx="900000" cy="964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60640" y="2795760"/>
                      <a:ext cx="900000" cy="96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2467800" y="3239280"/>
              <a:ext cx="8820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4830840" y="2587680"/>
          <a:ext cx="1268280" cy="12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30840" y="2587680"/>
                    <a:ext cx="1268280" cy="12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5115600" y="1612800"/>
            <a:ext cx="891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9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81200" y="1633680"/>
            <a:ext cx="1044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THÉ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0.9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251160" y="2701800"/>
            <a:ext cx="1155600" cy="1155960"/>
            <a:chOff x="3251160" y="2701800"/>
            <a:chExt cx="1155600" cy="1155960"/>
          </a:xfrm>
        </p:grpSpPr>
        <p:graphicFrame>
          <p:nvGraphicFramePr>
            <p:cNvPr id="108" name=""/>
            <p:cNvGraphicFramePr/>
            <p:nvPr/>
          </p:nvGraphicFramePr>
          <p:xfrm>
            <a:off x="3251160" y="2701800"/>
            <a:ext cx="1155600" cy="1155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51160" y="2701800"/>
                      <a:ext cx="1155600" cy="115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3623760" y="3068640"/>
              <a:ext cx="400680" cy="414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5920" y="3995640"/>
            <a:ext cx="3511080" cy="2664000"/>
            <a:chOff x="385920" y="3995640"/>
            <a:chExt cx="3511080" cy="2664000"/>
          </a:xfrm>
        </p:grpSpPr>
        <p:sp>
          <p:nvSpPr>
            <p:cNvPr id="112" name=""/>
            <p:cNvSpPr/>
            <p:nvPr/>
          </p:nvSpPr>
          <p:spPr>
            <a:xfrm>
              <a:off x="792360" y="3995640"/>
              <a:ext cx="10310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McM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1.6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385920" y="4734000"/>
            <a:ext cx="1925640" cy="1925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5920" y="4734000"/>
                      <a:ext cx="1925640" cy="192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"/>
            <p:cNvSpPr/>
            <p:nvPr/>
          </p:nvSpPr>
          <p:spPr>
            <a:xfrm>
              <a:off x="2892960" y="4181400"/>
              <a:ext cx="891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D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66ff33"/>
                  </a:solidFill>
                  <a:latin typeface="Arial"/>
                </a:rPr>
                <a:t>0.75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906640" y="5229360"/>
              <a:ext cx="990360" cy="990000"/>
              <a:chOff x="2906640" y="5229360"/>
              <a:chExt cx="990360" cy="990000"/>
            </a:xfrm>
          </p:grpSpPr>
          <p:graphicFrame>
            <p:nvGraphicFramePr>
              <p:cNvPr id="117" name=""/>
              <p:cNvGraphicFramePr/>
              <p:nvPr/>
            </p:nvGraphicFramePr>
            <p:xfrm>
              <a:off x="2906640" y="5229360"/>
              <a:ext cx="990360" cy="99000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18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906640" y="5229360"/>
                        <a:ext cx="990360" cy="99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9" name=""/>
              <p:cNvSpPr/>
              <p:nvPr/>
            </p:nvSpPr>
            <p:spPr>
              <a:xfrm>
                <a:off x="3354840" y="5684400"/>
                <a:ext cx="96840" cy="914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4304160" y="4194000"/>
            <a:ext cx="111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Big B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0.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81640" y="5364000"/>
            <a:ext cx="817560" cy="770040"/>
            <a:chOff x="4481640" y="5364000"/>
            <a:chExt cx="817560" cy="770040"/>
          </a:xfrm>
        </p:grpSpPr>
        <p:graphicFrame>
          <p:nvGraphicFramePr>
            <p:cNvPr id="122" name=""/>
            <p:cNvGraphicFramePr/>
            <p:nvPr/>
          </p:nvGraphicFramePr>
          <p:xfrm>
            <a:off x="4481640" y="5364000"/>
            <a:ext cx="817560" cy="7700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481640" y="5364000"/>
                      <a:ext cx="817560" cy="7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" name=""/>
            <p:cNvSpPr/>
            <p:nvPr/>
          </p:nvSpPr>
          <p:spPr>
            <a:xfrm>
              <a:off x="4851720" y="5717880"/>
              <a:ext cx="79920" cy="71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239160" y="3968640"/>
            <a:ext cx="764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66ff33"/>
                </a:solidFill>
                <a:latin typeface="Arial"/>
              </a:rPr>
              <a:t>1.6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697360" y="4689360"/>
          <a:ext cx="1925640" cy="1925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697360" y="4689360"/>
                    <a:ext cx="19256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607000" y="4599000"/>
            <a:ext cx="2054160" cy="205596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09240" y="533520"/>
            <a:ext cx="5270760" cy="5631840"/>
            <a:chOff x="2109240" y="533520"/>
            <a:chExt cx="5270760" cy="5631840"/>
          </a:xfrm>
        </p:grpSpPr>
        <p:sp>
          <p:nvSpPr>
            <p:cNvPr id="130" name=""/>
            <p:cNvSpPr/>
            <p:nvPr/>
          </p:nvSpPr>
          <p:spPr>
            <a:xfrm>
              <a:off x="2244240" y="1116360"/>
              <a:ext cx="5135760" cy="5049000"/>
            </a:xfrm>
            <a:prstGeom prst="ellipse">
              <a:avLst/>
            </a:prstGeom>
            <a:noFill/>
            <a:ln w="28440">
              <a:solidFill>
                <a:srgbClr val="00cc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240" y="533520"/>
              <a:ext cx="19562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EST &amp; AT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03A-73A8-41C4-83DD-F1D35FCFABE4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14089" r="0" b="14089"/>
          <a:stretch/>
        </p:blipFill>
        <p:spPr>
          <a:xfrm>
            <a:off x="-181080" y="-14400"/>
            <a:ext cx="9391680" cy="6881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050920" y="1066680"/>
            <a:ext cx="5472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igh-resolution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3A0-6491-4928-BA71-D26698A949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20160" cy="3587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241960"/>
            <a:ext cx="3241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1 raw image; t</a:t>
            </a:r>
            <a:r>
              <a:rPr b="0" lang="es-ES" sz="1800" spc="-1" strike="noStrike" baseline="-25000">
                <a:solidFill>
                  <a:srgbClr val="000066"/>
                </a:solidFill>
                <a:latin typeface="Arial"/>
              </a:rPr>
              <a:t>int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= 10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AO corr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00720" y="5241960"/>
            <a:ext cx="464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rrected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MOMFDB correction using 100 raw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3080" y="492120"/>
            <a:ext cx="5472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resolution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75A-1DAF-456E-AD8C-B65369EDC5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pre_post_speckle.jpg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413080" y="492120"/>
            <a:ext cx="54720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resolution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89E0-8AA3-4A19-83BB-85AF977CF2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591080" cy="4667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52920" y="1052640"/>
            <a:ext cx="4591080" cy="4667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050920" y="260280"/>
            <a:ext cx="547236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igh-resolution Polarimetric Ima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548-77DE-4A58-AC58-EB37AF12D88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68880" y="404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695240" cy="6096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660240"/>
            <a:ext cx="3454560" cy="147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2743200" y="2108160"/>
            <a:ext cx="3454560" cy="1473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2743200" y="3556080"/>
            <a:ext cx="3454560" cy="1473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2743200" y="5000760"/>
            <a:ext cx="3454560" cy="1473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246840" y="10332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ng-slit spectropolarime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00720" y="2852640"/>
            <a:ext cx="2519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2D spectro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are requ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66"/>
                </a:solidFill>
                <a:latin typeface="Arial"/>
              </a:rPr>
              <a:t>(IFUS, fibers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7E4-11C3-456A-A015-40C9187885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69840" y="719280"/>
            <a:ext cx="7202520" cy="585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058840" y="103320"/>
            <a:ext cx="60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mporal evolution (photosph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61B0-69B3-4FD5-B50B-5F29F6BA73AB}" type="slidenum">
              <a:t>9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70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3:12:26Z</dcterms:created>
  <dc:creator>lcavall</dc:creator>
  <dc:description/>
  <dc:language>en-US</dc:language>
  <cp:lastModifiedBy> </cp:lastModifiedBy>
  <dcterms:modified xsi:type="dcterms:W3CDTF">2009-10-12T12:12:15Z</dcterms:modified>
  <cp:revision>110</cp:revision>
  <dc:subject/>
  <dc:title>EST European Solar Telesc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