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294A-6A91-4D44-A66E-34FC5336D0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E3DF-CF10-4C1B-89AB-2494B15FB6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700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2040" y="4377960"/>
            <a:ext cx="504648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e es el aspecto genérico que se recomienda para el resto de transparencias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APOSITIVAS DE LA PONENCI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La estructura, formato y colores de los textos que se vayan incorporando al crear nuevas diapositivas están definidos en el patr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modificar el “PONENTE”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Debe hacerse directamente sobre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 Para ello, basta con ir a la opción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VER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, y dentro de ahí a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 y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. Una vez allí, podremos modificar el texto en cues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incluir otros LOGOS o instituciones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Recomendamos simplicidad y sintonía de col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Si otras instituciones deben figurar en la presentación, podremos incluir los logos (preferiblemente “logos” en vez de nombres) de las mismas en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Para ello, basta con ir a la opción “VER”, y dentro de ahí a “PATRÓN” y “PATRÓN DE DIAPOSITIVAS”. Una vez allí, incluir los logos pertin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125880" y="8263080"/>
            <a:ext cx="624960" cy="567720"/>
            <a:chOff x="3125880" y="8263080"/>
            <a:chExt cx="624960" cy="567720"/>
          </a:xfrm>
        </p:grpSpPr>
        <p:sp>
          <p:nvSpPr>
            <p:cNvPr id="340" name=""/>
            <p:cNvSpPr/>
            <p:nvPr/>
          </p:nvSpPr>
          <p:spPr>
            <a:xfrm>
              <a:off x="3130920" y="8267400"/>
              <a:ext cx="619920" cy="56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200" rIns="882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2720"/>
                  <a:tab algn="l" pos="1765440"/>
                  <a:tab algn="l" pos="2647800"/>
                  <a:tab algn="l" pos="3530520"/>
                  <a:tab algn="l" pos="4413240"/>
                  <a:tab algn="l" pos="5295960"/>
                  <a:tab algn="l" pos="6178680"/>
                  <a:tab algn="l" pos="7061040"/>
                  <a:tab algn="l" pos="7943760"/>
                  <a:tab algn="l" pos="8826480"/>
                  <a:tab algn="l" pos="9709200"/>
                  <a:tab algn="l" pos="10591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3125880" y="8263080"/>
              <a:ext cx="620280" cy="56376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AE23-D9C7-4377-A1B4-FF5A4551B4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4D96-49D9-44A5-AC11-E1CD21D562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556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2040" y="4377960"/>
            <a:ext cx="504792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e es el aspecto genérico que se recomienda para el resto de transparencias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APOSITIVAS DE LA PONENCI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La estructura, formato y colores de los textos que se vayan incorporando al crear nuevas diapositivas están definidos en el patr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modificar el “PONENTE”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Debe hacerse directamente sobre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 Para ello, basta con ir a la opción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VER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, y dentro de ahí a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 y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. Una vez allí, podremos modificar el texto en cues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incluir otros LOGOS o instituciones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Recomendamos simplicidad y sintonía de col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Si otras instituciones deben figurar en la presentación, podremos incluir los logos (preferiblemente “logos” en vez de nombres) de las mismas en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Para ello, basta con ir a la opción “VER”, y dentro de ahí a “PATRÓN” y “PATRÓN DE DIAPOSITIVAS”. Una vez allí, incluir los logos pertin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125880" y="8263080"/>
            <a:ext cx="624960" cy="569520"/>
            <a:chOff x="3125880" y="8263080"/>
            <a:chExt cx="624960" cy="569520"/>
          </a:xfrm>
        </p:grpSpPr>
        <p:sp>
          <p:nvSpPr>
            <p:cNvPr id="322" name=""/>
            <p:cNvSpPr/>
            <p:nvPr/>
          </p:nvSpPr>
          <p:spPr>
            <a:xfrm>
              <a:off x="3130920" y="8267400"/>
              <a:ext cx="619920" cy="56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3125880" y="8263080"/>
              <a:ext cx="620280" cy="56556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33AB-A1C6-460E-8D0F-0F2CD03102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9700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2040" y="4377960"/>
            <a:ext cx="504648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e es el aspecto genérico que se recomienda para el resto de transparencias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APOSITIVAS DE LA PONENCI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La estructura, formato y colores de los textos que se vayan incorporando al crear nuevas diapositivas están definidos en el patr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modificar el “PONENTE”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Debe hacerse directamente sobre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 Para ello, basta con ir a la opción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VER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, y dentro de ahí a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 y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. Una vez allí, podremos modificar el texto en cues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incluir otros LOGOS o instituciones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Recomendamos simplicidad y sintonía de col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Si otras instituciones deben figurar en la presentación, podremos incluir los logos (preferiblemente “logos” en vez de nombres) de las mismas en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Para ello, basta con ir a la opción “VER”, y dentro de ahí a “PATRÓN” y “PATRÓN DE DIAPOSITIVAS”. Una vez allí, incluir los logos pertin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125880" y="8263080"/>
            <a:ext cx="624960" cy="567720"/>
            <a:chOff x="3125880" y="8263080"/>
            <a:chExt cx="624960" cy="567720"/>
          </a:xfrm>
        </p:grpSpPr>
        <p:sp>
          <p:nvSpPr>
            <p:cNvPr id="331" name=""/>
            <p:cNvSpPr/>
            <p:nvPr/>
          </p:nvSpPr>
          <p:spPr>
            <a:xfrm>
              <a:off x="3130920" y="8267400"/>
              <a:ext cx="619920" cy="56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200" rIns="882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2720"/>
                  <a:tab algn="l" pos="1765440"/>
                  <a:tab algn="l" pos="2647800"/>
                  <a:tab algn="l" pos="3530520"/>
                  <a:tab algn="l" pos="4413240"/>
                  <a:tab algn="l" pos="5295960"/>
                  <a:tab algn="l" pos="6178680"/>
                  <a:tab algn="l" pos="7061040"/>
                  <a:tab algn="l" pos="7943760"/>
                  <a:tab algn="l" pos="8826480"/>
                  <a:tab algn="l" pos="9709200"/>
                  <a:tab algn="l" pos="10591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3125880" y="8263080"/>
              <a:ext cx="620280" cy="56376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8AC-56B3-4F60-A29C-5A974ADD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5280" y="3908880"/>
            <a:ext cx="82915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8ED-BFFF-46AC-A48A-B624E06A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95280" y="39088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4000" y="39088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4F4-200C-4365-8EC3-8878EAB6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98960" y="14842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02640" y="14842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95280" y="39088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98960" y="39088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02640" y="39088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089-B8E8-42F8-A9F0-0470D372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7EC-959D-4FA9-83AE-148A0459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D9D-6CF9-415A-802A-B5C6D1DD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05D-A482-426A-8F95-064C01DD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386-C439-478A-A35B-36706D90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340000" y="274320"/>
            <a:ext cx="547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6FF3-869D-4285-8862-44F09D4A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9088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095-BFA4-4A74-9365-A2180CED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4000" y="39088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502-E11D-4FFD-83C5-6E3B9808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908880"/>
            <a:ext cx="82915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8B6-2D36-4E56-A0B4-346CB216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rching, 12-16/09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. Collados, I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75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tectors for Astronom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CFF1-6894-412C-9511-4A1233883E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229600" cy="142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6235560"/>
            <a:ext cx="849636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16000" cy="109836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8244000" y="260280"/>
            <a:ext cx="856800" cy="864360"/>
            <a:chOff x="8244000" y="260280"/>
            <a:chExt cx="856800" cy="864360"/>
          </a:xfrm>
        </p:grpSpPr>
        <p:sp>
          <p:nvSpPr>
            <p:cNvPr id="10" name=""/>
            <p:cNvSpPr/>
            <p:nvPr/>
          </p:nvSpPr>
          <p:spPr>
            <a:xfrm>
              <a:off x="8250840" y="267120"/>
              <a:ext cx="849960" cy="857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4"/>
            <a:stretch/>
          </p:blipFill>
          <p:spPr>
            <a:xfrm>
              <a:off x="8244000" y="260280"/>
              <a:ext cx="850320" cy="858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Modern Detectors in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high-resolution ground-based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observational Solar Phy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. Coll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ituto de Astrofísica de Can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Solar Tele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58480" y="103320"/>
            <a:ext cx="63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mporal evolution (chromosphe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71640" y="719280"/>
            <a:ext cx="7518240" cy="585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F1A-EAF8-4E9F-912E-479A12834C42}" type="slidenum">
              <a:t>10</a:t>
            </a:fld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930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29" descr="sunspot_cont_cak"/>
          <p:cNvPicPr/>
          <p:nvPr/>
        </p:nvPicPr>
        <p:blipFill>
          <a:blip r:embed="rId1"/>
          <a:stretch/>
        </p:blipFill>
        <p:spPr>
          <a:xfrm>
            <a:off x="108000" y="1436760"/>
            <a:ext cx="8901000" cy="4513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35280" y="587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hot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5877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hro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2C2-A721-4112-A7B0-B9DE4935FF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9640" y="1954080"/>
            <a:ext cx="8209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Simultaneous observation of different solar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Highest spatial resolution (0.04” @ 500 n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Temporal evolution at different solar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Magnetic field stratification </a:t>
            </a:r>
            <a:r>
              <a:rPr b="0" lang="es-ES" sz="22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Polarimetric measu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Magnetic field evolution at different solar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Magnetic coupling of the solar atmosp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4941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445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MULTANEOUS USE OF DIFFERENT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89000"/>
            <a:ext cx="910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CIENCE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A89-FC45-4A30-9A53-3FF9ED66BD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00000" y="358920"/>
            <a:ext cx="816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Polarimetric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96800" y="1735200"/>
            <a:ext cx="6559560" cy="1798560"/>
            <a:chOff x="1396800" y="1735200"/>
            <a:chExt cx="6559560" cy="1798560"/>
          </a:xfrm>
        </p:grpSpPr>
        <p:grpSp>
          <p:nvGrpSpPr>
            <p:cNvPr id="164" name=""/>
            <p:cNvGrpSpPr/>
            <p:nvPr/>
          </p:nvGrpSpPr>
          <p:grpSpPr>
            <a:xfrm>
              <a:off x="2469600" y="1735200"/>
              <a:ext cx="5327640" cy="1798560"/>
              <a:chOff x="2469600" y="1735200"/>
              <a:chExt cx="5327640" cy="1798560"/>
            </a:xfrm>
          </p:grpSpPr>
          <p:sp>
            <p:nvSpPr>
              <p:cNvPr id="165" name=""/>
              <p:cNvSpPr/>
              <p:nvPr/>
            </p:nvSpPr>
            <p:spPr>
              <a:xfrm>
                <a:off x="7672680" y="1735200"/>
                <a:ext cx="12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7778160" y="1735200"/>
                <a:ext cx="0" cy="13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70200" y="1735200"/>
                <a:ext cx="12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279560" y="1735200"/>
                <a:ext cx="0" cy="139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69600" y="3056040"/>
                <a:ext cx="106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Pol.</a:t>
                </a:r>
                <a:r>
                  <a:rPr b="1" lang="es-ES_tradnl" sz="2000" spc="-1" strike="noStrike">
                    <a:solidFill>
                      <a:srgbClr val="ff66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18800" y="3042360"/>
                <a:ext cx="124920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R (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06800" y="3042360"/>
                <a:ext cx="1246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R (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1" lang="es-ES_tradnl" sz="2000" spc="-1" strike="noStrike">
                    <a:solidFill>
                      <a:srgbClr val="ff6600"/>
                    </a:solidFill>
                    <a:latin typeface="Times New Roman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7662240" y="3129840"/>
              <a:ext cx="12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60480" y="3129840"/>
              <a:ext cx="12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019920" y="2432520"/>
              <a:ext cx="1062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07760" y="1996560"/>
              <a:ext cx="374760" cy="95868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20840" y="1996560"/>
              <a:ext cx="374760" cy="95868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71640" y="1996560"/>
              <a:ext cx="374760" cy="95868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396800" y="2476080"/>
              <a:ext cx="1061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47000" y="2084760"/>
              <a:ext cx="81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tra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30680" y="1822320"/>
              <a:ext cx="625680" cy="13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06440" y="3441600"/>
            <a:ext cx="6073920" cy="1859040"/>
            <a:chOff x="1306440" y="3441600"/>
            <a:chExt cx="6073920" cy="1859040"/>
          </a:xfrm>
        </p:grpSpPr>
        <p:sp>
          <p:nvSpPr>
            <p:cNvPr id="182" name=""/>
            <p:cNvSpPr/>
            <p:nvPr/>
          </p:nvSpPr>
          <p:spPr>
            <a:xfrm>
              <a:off x="1306440" y="4138560"/>
              <a:ext cx="60739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trans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= [1  1  0  0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R (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) R (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852240" y="3441600"/>
              <a:ext cx="0" cy="185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39200" y="3441600"/>
              <a:ext cx="13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39200" y="5300640"/>
              <a:ext cx="13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120" y="3441600"/>
              <a:ext cx="13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324120" y="3441600"/>
              <a:ext cx="0" cy="185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14400" y="5300640"/>
              <a:ext cx="13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90000" y="3557520"/>
              <a:ext cx="660240" cy="16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6000" y="4076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717560" y="5300640"/>
            <a:ext cx="5375520" cy="703440"/>
            <a:chOff x="1717560" y="5300640"/>
            <a:chExt cx="5375520" cy="703440"/>
          </a:xfrm>
        </p:grpSpPr>
        <p:sp>
          <p:nvSpPr>
            <p:cNvPr id="192" name=""/>
            <p:cNvSpPr/>
            <p:nvPr/>
          </p:nvSpPr>
          <p:spPr>
            <a:xfrm>
              <a:off x="1717560" y="530064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s-ES_tradnl" sz="40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74920" y="5516640"/>
              <a:ext cx="471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N =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 I =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N    // 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D M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73480" y="537372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76560" y="536256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02160" y="53452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89400" y="536256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B0B-1C6D-4B66-B94B-88CE7F45A1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89000"/>
            <a:ext cx="910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1413000"/>
            <a:ext cx="79930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str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Broad-band im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Narrow-band tunable filter spectropolari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Grating spectropolari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3357720"/>
            <a:ext cx="799308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umber of instrument chann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Broad-band imager: 3 (goal 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Visible narrow-band filter (</a:t>
            </a:r>
            <a:r>
              <a:rPr b="0" lang="el-GR" sz="22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&lt;1100 nm): up to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NIR narrow-band filter (</a:t>
            </a:r>
            <a:r>
              <a:rPr b="0" lang="el-GR" sz="22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&gt;700 nm): up to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Visible spectrograph (</a:t>
            </a:r>
            <a:r>
              <a:rPr b="0" lang="el-GR" sz="22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&lt;1100 nm): up to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NIR spectrograph (</a:t>
            </a:r>
            <a:r>
              <a:rPr b="0" lang="el-GR" sz="22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&gt;700 nm): up to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D99-01BB-4F62-AD64-B72679284A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356000" y="6568920"/>
            <a:ext cx="1360440" cy="2890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24280" y="6545160"/>
            <a:ext cx="1290600" cy="312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966920" y="3227400"/>
            <a:ext cx="24300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3227400"/>
            <a:ext cx="24300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300640"/>
            <a:ext cx="339840" cy="9144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87880" y="4175280"/>
            <a:ext cx="218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5070600"/>
            <a:ext cx="853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49800" y="32130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1800" y="42465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00720" y="4076640"/>
            <a:ext cx="70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75-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352760" y="3257640"/>
            <a:ext cx="24480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16320" y="5319720"/>
            <a:ext cx="341280" cy="912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80000" y="34290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5/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ubL"/>
          <p:cNvSpPr/>
          <p:nvPr/>
        </p:nvSpPr>
        <p:spPr>
          <a:xfrm rot="5400000">
            <a:off x="6731280" y="1916640"/>
            <a:ext cx="1271520" cy="2279880"/>
          </a:xfrm>
          <a:custGeom>
            <a:avLst/>
            <a:gdLst>
              <a:gd name="textAreaLeft" fmla="*/ 0 w 1271520"/>
              <a:gd name="textAreaRight" fmla="*/ 1271520 w 1271520"/>
              <a:gd name="textAreaTop" fmla="*/ 1467720 h 2279880"/>
              <a:gd name="textAreaBottom" fmla="*/ 2280240 h 227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3904"/>
                </a:lnTo>
                <a:lnTo>
                  <a:pt x="10800" y="13904"/>
                </a:lnTo>
                <a:lnTo>
                  <a:pt x="10800" y="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121440" y="3500280"/>
            <a:ext cx="32220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ubL"/>
          <p:cNvSpPr/>
          <p:nvPr/>
        </p:nvSpPr>
        <p:spPr>
          <a:xfrm rot="16200000">
            <a:off x="6701400" y="3900960"/>
            <a:ext cx="1843200" cy="1543320"/>
          </a:xfrm>
          <a:custGeom>
            <a:avLst/>
            <a:gdLst>
              <a:gd name="textAreaLeft" fmla="*/ 0 w 1843200"/>
              <a:gd name="textAreaRight" fmla="*/ 1843560 w 1843200"/>
              <a:gd name="textAreaTop" fmla="*/ 771840 h 1543320"/>
              <a:gd name="textAreaBottom" fmla="*/ 1543680 h 154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4320" y="2919240"/>
            <a:ext cx="141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NI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00-90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81400" y="407196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NI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900-110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60720" y="3232080"/>
            <a:ext cx="24120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8160" y="33400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7600" y="2492280"/>
            <a:ext cx="10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208040" y="2490840"/>
            <a:ext cx="24444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ubL"/>
          <p:cNvSpPr/>
          <p:nvPr/>
        </p:nvSpPr>
        <p:spPr>
          <a:xfrm rot="5400000">
            <a:off x="4558680" y="604440"/>
            <a:ext cx="1270080" cy="2279880"/>
          </a:xfrm>
          <a:custGeom>
            <a:avLst/>
            <a:gdLst>
              <a:gd name="textAreaLeft" fmla="*/ 0 w 1270080"/>
              <a:gd name="textAreaRight" fmla="*/ 1270440 w 1270080"/>
              <a:gd name="textAreaTop" fmla="*/ 1467720 h 2279880"/>
              <a:gd name="textAreaBottom" fmla="*/ 2280240 h 227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3904"/>
                </a:lnTo>
                <a:lnTo>
                  <a:pt x="10800" y="13904"/>
                </a:lnTo>
                <a:lnTo>
                  <a:pt x="10800" y="0"/>
                </a:lnTo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1413000"/>
            <a:ext cx="21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1 (390-55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44880" y="2390760"/>
            <a:ext cx="1397160" cy="317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B1 CaII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81400" y="3227400"/>
            <a:ext cx="2426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3385440" y="1807560"/>
            <a:ext cx="380880" cy="1033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8660000">
            <a:off x="2836800" y="1982520"/>
            <a:ext cx="1139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B3 H</a:t>
            </a: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CaII 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69680" y="621828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P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33440" y="6254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PN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3227400"/>
            <a:ext cx="2444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ubL"/>
          <p:cNvSpPr/>
          <p:nvPr/>
        </p:nvSpPr>
        <p:spPr>
          <a:xfrm rot="5400000">
            <a:off x="1639440" y="3342960"/>
            <a:ext cx="1334880" cy="2217960"/>
          </a:xfrm>
          <a:custGeom>
            <a:avLst/>
            <a:gdLst>
              <a:gd name="textAreaLeft" fmla="*/ 0 w 1334880"/>
              <a:gd name="textAreaRight" fmla="*/ 1335240 w 1334880"/>
              <a:gd name="textAreaTop" fmla="*/ 1427760 h 2217960"/>
              <a:gd name="textAreaBottom" fmla="*/ 2218320 h 221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3904"/>
                </a:lnTo>
                <a:lnTo>
                  <a:pt x="10800" y="13904"/>
                </a:lnTo>
                <a:lnTo>
                  <a:pt x="10800" y="0"/>
                </a:lnTo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ubL"/>
          <p:cNvSpPr/>
          <p:nvPr/>
        </p:nvSpPr>
        <p:spPr>
          <a:xfrm rot="5400000">
            <a:off x="10440" y="2643120"/>
            <a:ext cx="3112920" cy="1094040"/>
          </a:xfrm>
          <a:custGeom>
            <a:avLst/>
            <a:gdLst>
              <a:gd name="textAreaLeft" fmla="*/ 0 w 3112920"/>
              <a:gd name="textAreaRight" fmla="*/ 3113280 w 3112920"/>
              <a:gd name="textAreaTop" fmla="*/ 547200 h 1094040"/>
              <a:gd name="textAreaBottom" fmla="*/ 1094400 h 10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6995" y="10800"/>
                </a:lnTo>
                <a:lnTo>
                  <a:pt x="6995" y="0"/>
                </a:lnTo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84360" y="220500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0-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29080" y="249228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-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1280" y="3052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-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46320" y="29242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47600" y="427032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2 (550-70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0240" y="320976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700-110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89560" y="3382920"/>
            <a:ext cx="0" cy="187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44920" y="56545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wer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94320" y="16938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pper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70160" y="61452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eam from tele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2280" y="244620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192480" y="2276640"/>
            <a:ext cx="94788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2280" y="2820960"/>
            <a:ext cx="0" cy="137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0228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2280" y="2133720"/>
            <a:ext cx="0" cy="31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2280" y="1446120"/>
            <a:ext cx="0" cy="6876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102280" y="1133640"/>
            <a:ext cx="0" cy="31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746360" y="3355920"/>
            <a:ext cx="334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500200" y="2508120"/>
            <a:ext cx="662040" cy="84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777680" y="3360600"/>
            <a:ext cx="3920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2720" y="3232080"/>
            <a:ext cx="24120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3225960"/>
            <a:ext cx="2444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24600" y="4037040"/>
            <a:ext cx="24300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019920" y="4049640"/>
            <a:ext cx="2426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02280" y="944640"/>
            <a:ext cx="0" cy="539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4189680" y="2446920"/>
            <a:ext cx="380880" cy="1033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8660000">
            <a:off x="3591000" y="2626920"/>
            <a:ext cx="1139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aII 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24280" y="2381400"/>
            <a:ext cx="24300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76640" y="4051440"/>
            <a:ext cx="24300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1960" y="2374920"/>
            <a:ext cx="2426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94720" y="34527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NI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02280" y="3330720"/>
            <a:ext cx="0" cy="539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6680" y="299232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VI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671720" y="335772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196440" y="3026880"/>
            <a:ext cx="277920" cy="331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75680" y="28144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894320" y="3335040"/>
            <a:ext cx="265680" cy="34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750680" y="335772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8480" y="34592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GREEN-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94520" y="299736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90120" y="103320"/>
            <a:ext cx="56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 Simultaneous instru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CF1-6159-4A3A-8A81-1B884DBEB2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4360" y="13860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ferent instruments require different det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89000"/>
            <a:ext cx="910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1944720"/>
            <a:ext cx="799308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mon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Integration time &lt; 10 ms (to freeze atmosph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Global shutter (same atmospheric degradation at all pi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4 k x 4k (1 x 1 arcmin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for optimum resolution with 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instruments; and largest FOV for 2D spectrograp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Expected flux: (~2 - 4 Me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/px/s)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Well depth &gt; 40000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hoton-noise limited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read noise &lt; 1/3 * noise (5-10% w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epth)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read noise &lt; 15 e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BB3-1A86-4E2B-8C11-99F9DC9EF0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4360" y="1700280"/>
            <a:ext cx="799308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mon requirements (cont’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ark current: few e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ixel size: 10-20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Wavelength range: 390 -1600 nm (2300 n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14 bits/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QE: as large as possible; &gt; 60% (B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                            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&gt; 90% (V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                            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&gt; 50% (N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Good (and stable) cosm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89000"/>
            <a:ext cx="910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5E8-C0A1-42C7-8513-9004AE4890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4280"/>
            <a:ext cx="910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 DETECTOR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OAD-BAND IMA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1944720"/>
            <a:ext cx="7993080" cy="30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ticular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Frame rate: 30-100 fr/s, for post-facto reconstru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techniques (speckle, MOMFB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imultaneous exposure of all chann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(to better than 1 ms)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simultaneous trigg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D70-EA67-45BD-8707-713582AC56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03280" y="44280"/>
            <a:ext cx="7704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TECTORS FOR POLARIMETRY</a:t>
            </a:r>
            <a:br>
              <a:rPr sz="28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IMAGERS AND 2D SPECTROGRA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1501920"/>
            <a:ext cx="799308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ticular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ead time between exposures: 0 ms (photons are sc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for polarimetry; signals are tremendously sm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Frame rate: 100 fr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imultaneous exposure of all channels (to better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1 ms)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simultaneous trigg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olarization modulation on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olarization modulation frequency &gt;&gt; frame rate; 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Number of modulation states: 4 to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578-0131-46C2-94E1-9294E12FFB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ajor Groundbased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lar Observ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31920" y="2021040"/>
            <a:ext cx="7448400" cy="4305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2760" y="3559320"/>
            <a:ext cx="217440" cy="214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5166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7040" y="34988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2160" y="351792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47840" y="353052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65560" y="379080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19400" y="3797280"/>
            <a:ext cx="21780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1320" y="326376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0640" y="298440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57960" y="353520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280" y="5877000"/>
            <a:ext cx="217440" cy="214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03800" y="3860640"/>
            <a:ext cx="217800" cy="21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4320" y="38750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cc33"/>
                </a:solidFill>
                <a:latin typeface="Arial"/>
              </a:rPr>
              <a:t>ATST 4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3429000"/>
            <a:ext cx="14302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BB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NSO K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NSO 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95680" y="2673360"/>
            <a:ext cx="90504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S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THEM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V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D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GREGOR</a:t>
            </a:r>
            <a:r>
              <a:rPr b="0" lang="de-DE" sz="1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19360" y="4005360"/>
            <a:ext cx="11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cc33"/>
                </a:solidFill>
                <a:latin typeface="Arial"/>
              </a:rPr>
              <a:t>EST  4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009960"/>
            <a:ext cx="90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Crim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5320" y="2724120"/>
            <a:ext cx="90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Baik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0" y="3521160"/>
            <a:ext cx="90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H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96120" y="378468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Huair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03920" y="35672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3645000"/>
            <a:ext cx="1295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ff00"/>
                </a:solidFill>
                <a:latin typeface="Arial"/>
              </a:rPr>
              <a:t>Himalya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ff00"/>
                </a:solidFill>
                <a:latin typeface="Arial"/>
              </a:rPr>
              <a:t>Udaipur 0.5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57640" y="37418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05360" y="37418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64500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200" y="5445000"/>
            <a:ext cx="1074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exi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ff00"/>
                </a:solidFill>
                <a:latin typeface="Arial"/>
              </a:rPr>
              <a:t>pl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02560" y="3213000"/>
            <a:ext cx="217440" cy="21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0360" y="31878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ff00"/>
                </a:solidFill>
                <a:latin typeface="Arial"/>
              </a:rPr>
              <a:t>Fuxian 1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4560" y="3789360"/>
            <a:ext cx="217800" cy="214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4720" y="3789360"/>
            <a:ext cx="217440" cy="214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50F-86D6-40C7-BD9A-0A3E487B3A3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547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daptive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876240" y="205416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726080" y="2054160"/>
            <a:ext cx="3352680" cy="2743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392120" y="5300640"/>
            <a:ext cx="60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VTT Tenerife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8DA-EC80-4013-BEFA-9D306EDB226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846520" y="333360"/>
            <a:ext cx="4781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 AO Wavefront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2637000"/>
            <a:ext cx="3456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ometry for high order on-axis W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cm subapertur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852 subapertures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V: 10´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851280" y="1523880"/>
            <a:ext cx="4944960" cy="455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949-1D2A-4D65-BAB5-24FACAC8357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339640" y="475920"/>
            <a:ext cx="5761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ulti-Conjugate Adaptive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92120" y="5654520"/>
            <a:ext cx="60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VTT Tenerife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177336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971640" y="4941720"/>
            <a:ext cx="11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AO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7400" y="4933800"/>
            <a:ext cx="22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Conventional 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48360" y="486900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M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B4B-FD65-4196-BD5E-DBBA9197651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39640" y="475920"/>
            <a:ext cx="5761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ulti-Conjugate Adaptive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767280" cy="22701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1403280" y="3789360"/>
            <a:ext cx="3962520" cy="2390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651640" y="4221000"/>
            <a:ext cx="27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Wide-field wave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20A-00F3-415F-9FFE-3A5B52F934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11280" y="2637000"/>
            <a:ext cx="3456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ometry for low orde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-axis W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1cm subapertur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8 subapertures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V: 70´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989520" y="1584360"/>
            <a:ext cx="4686120" cy="4478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705040" y="333360"/>
            <a:ext cx="5332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 MCAO Wavefront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A4B-91BE-446E-BE16-7D3BB4B5E46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4360" y="1501920"/>
            <a:ext cx="799308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bits/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00 μs readout time (max), goal: 300 μs (2000-3000 fr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lobal sh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200 μs exposure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lt; 70e- readout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0000e- full well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1024x1024 pixel (minimum); 1300x1300 pixel (go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MCA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2300x2300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43600" y="333360"/>
            <a:ext cx="4875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 AO &amp; MCAO Wavefro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nsor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8FC-AC65-4DF3-8C36-588DDCD208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95280" y="1382760"/>
            <a:ext cx="8497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spatial resolution and large FOV lead to large-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mospheric turbulence makes it necessary to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short integration times ( &lt; 10 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age reconstruction techniques require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nization better than 1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larization signals induced by the magnetic field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low, typically of the order of 10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-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the ob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nsity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ise sources have to be reduced to a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larization measurements are better if modulation is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the pixel and at a high frequency (kHz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CAO requires very fast large-format det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32600" y="333360"/>
            <a:ext cx="270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039-6EC1-49C3-B18F-ECD442862B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35480" y="44280"/>
            <a:ext cx="516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perture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8760" y="1606680"/>
            <a:ext cx="89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V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0.7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3080" y="1612800"/>
            <a:ext cx="89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0.4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24600" y="1584360"/>
            <a:ext cx="1197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GREG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1.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600960" y="2322360"/>
          <a:ext cx="192564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0960" y="2322360"/>
                    <a:ext cx="19256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" name=""/>
          <p:cNvGrpSpPr/>
          <p:nvPr/>
        </p:nvGrpSpPr>
        <p:grpSpPr>
          <a:xfrm>
            <a:off x="981000" y="2960640"/>
            <a:ext cx="579600" cy="579600"/>
            <a:chOff x="981000" y="2960640"/>
            <a:chExt cx="579600" cy="579600"/>
          </a:xfrm>
        </p:grpSpPr>
        <p:graphicFrame>
          <p:nvGraphicFramePr>
            <p:cNvPr id="96" name=""/>
            <p:cNvGraphicFramePr/>
            <p:nvPr/>
          </p:nvGraphicFramePr>
          <p:xfrm>
            <a:off x="981000" y="2960640"/>
            <a:ext cx="579600" cy="579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81000" y="2960640"/>
                      <a:ext cx="579600" cy="5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1230120" y="3214080"/>
              <a:ext cx="802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060640" y="2795760"/>
            <a:ext cx="900000" cy="964800"/>
            <a:chOff x="2060640" y="2795760"/>
            <a:chExt cx="900000" cy="964800"/>
          </a:xfrm>
        </p:grpSpPr>
        <p:graphicFrame>
          <p:nvGraphicFramePr>
            <p:cNvPr id="100" name=""/>
            <p:cNvGraphicFramePr/>
            <p:nvPr/>
          </p:nvGraphicFramePr>
          <p:xfrm>
            <a:off x="2060640" y="2795760"/>
            <a:ext cx="900000" cy="964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60640" y="2795760"/>
                      <a:ext cx="900000" cy="96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2467800" y="3239280"/>
              <a:ext cx="8820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4830840" y="2587680"/>
          <a:ext cx="1268280" cy="12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30840" y="2587680"/>
                    <a:ext cx="126828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115600" y="1612800"/>
            <a:ext cx="89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0.98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81200" y="1633680"/>
            <a:ext cx="1044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THÉ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0.9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51160" y="2701800"/>
            <a:ext cx="1155600" cy="1155960"/>
            <a:chOff x="3251160" y="2701800"/>
            <a:chExt cx="1155600" cy="1155960"/>
          </a:xfrm>
        </p:grpSpPr>
        <p:graphicFrame>
          <p:nvGraphicFramePr>
            <p:cNvPr id="108" name=""/>
            <p:cNvGraphicFramePr/>
            <p:nvPr/>
          </p:nvGraphicFramePr>
          <p:xfrm>
            <a:off x="3251160" y="2701800"/>
            <a:ext cx="1155600" cy="1155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51160" y="2701800"/>
                      <a:ext cx="1155600" cy="115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3623760" y="3068640"/>
              <a:ext cx="400680" cy="414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5920" y="3995640"/>
            <a:ext cx="3511080" cy="2664000"/>
            <a:chOff x="385920" y="3995640"/>
            <a:chExt cx="3511080" cy="2664000"/>
          </a:xfrm>
        </p:grpSpPr>
        <p:sp>
          <p:nvSpPr>
            <p:cNvPr id="112" name=""/>
            <p:cNvSpPr/>
            <p:nvPr/>
          </p:nvSpPr>
          <p:spPr>
            <a:xfrm>
              <a:off x="792360" y="3995640"/>
              <a:ext cx="10310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6ff33"/>
                  </a:solidFill>
                  <a:latin typeface="Arial"/>
                </a:rPr>
                <a:t>McM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6ff33"/>
                  </a:solidFill>
                  <a:latin typeface="Arial"/>
                </a:rPr>
                <a:t>1.6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385920" y="4734000"/>
            <a:ext cx="1925640" cy="1925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5920" y="4734000"/>
                      <a:ext cx="1925640" cy="19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2892960" y="4181400"/>
              <a:ext cx="891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6ff33"/>
                  </a:solidFill>
                  <a:latin typeface="Arial"/>
                </a:rPr>
                <a:t>D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6ff33"/>
                  </a:solidFill>
                  <a:latin typeface="Arial"/>
                </a:rPr>
                <a:t>0.7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906640" y="5229360"/>
              <a:ext cx="990360" cy="990000"/>
              <a:chOff x="2906640" y="5229360"/>
              <a:chExt cx="990360" cy="990000"/>
            </a:xfrm>
          </p:grpSpPr>
          <p:graphicFrame>
            <p:nvGraphicFramePr>
              <p:cNvPr id="117" name=""/>
              <p:cNvGraphicFramePr/>
              <p:nvPr/>
            </p:nvGraphicFramePr>
            <p:xfrm>
              <a:off x="2906640" y="5229360"/>
              <a:ext cx="990360" cy="9900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18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906640" y="5229360"/>
                        <a:ext cx="990360" cy="99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9" name=""/>
              <p:cNvSpPr/>
              <p:nvPr/>
            </p:nvSpPr>
            <p:spPr>
              <a:xfrm>
                <a:off x="3354840" y="5684400"/>
                <a:ext cx="96840" cy="914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4304160" y="4194000"/>
            <a:ext cx="1119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ff33"/>
                </a:solidFill>
                <a:latin typeface="Arial"/>
              </a:rPr>
              <a:t>Big B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ff33"/>
                </a:solidFill>
                <a:latin typeface="Arial"/>
              </a:rPr>
              <a:t>0.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81640" y="5364000"/>
            <a:ext cx="817560" cy="770040"/>
            <a:chOff x="4481640" y="5364000"/>
            <a:chExt cx="817560" cy="770040"/>
          </a:xfrm>
        </p:grpSpPr>
        <p:graphicFrame>
          <p:nvGraphicFramePr>
            <p:cNvPr id="122" name=""/>
            <p:cNvGraphicFramePr/>
            <p:nvPr/>
          </p:nvGraphicFramePr>
          <p:xfrm>
            <a:off x="4481640" y="5364000"/>
            <a:ext cx="817560" cy="770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481640" y="5364000"/>
                      <a:ext cx="817560" cy="7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4851720" y="5717880"/>
              <a:ext cx="79920" cy="71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239160" y="3968640"/>
            <a:ext cx="764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ff33"/>
                </a:solidFill>
                <a:latin typeface="Arial"/>
              </a:rPr>
              <a:t>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ff33"/>
                </a:solidFill>
                <a:latin typeface="Arial"/>
              </a:rPr>
              <a:t>1.6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697360" y="4689360"/>
          <a:ext cx="1925640" cy="1925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97360" y="4689360"/>
                    <a:ext cx="19256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607000" y="4599000"/>
            <a:ext cx="2054160" cy="2055960"/>
          </a:xfrm>
          <a:prstGeom prst="ellips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09240" y="533520"/>
            <a:ext cx="5270760" cy="5631840"/>
            <a:chOff x="2109240" y="533520"/>
            <a:chExt cx="5270760" cy="5631840"/>
          </a:xfrm>
        </p:grpSpPr>
        <p:sp>
          <p:nvSpPr>
            <p:cNvPr id="130" name=""/>
            <p:cNvSpPr/>
            <p:nvPr/>
          </p:nvSpPr>
          <p:spPr>
            <a:xfrm>
              <a:off x="2244240" y="1116360"/>
              <a:ext cx="5135760" cy="5049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9240" y="533520"/>
              <a:ext cx="1956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EST &amp; AT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8A5-9D94-49B8-9E30-5BC608BD16BB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14089" r="0" b="14089"/>
          <a:stretch/>
        </p:blipFill>
        <p:spPr>
          <a:xfrm>
            <a:off x="-181080" y="-14400"/>
            <a:ext cx="9391680" cy="6881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050920" y="1066680"/>
            <a:ext cx="5472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igh-resolution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1D5-D66B-4751-8826-D2299AFACD7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20160" cy="3587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241960"/>
            <a:ext cx="3241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1 raw image; t</a:t>
            </a:r>
            <a:r>
              <a:rPr b="0" lang="es-ES" sz="1800" spc="-1" strike="noStrike" baseline="-25000">
                <a:solidFill>
                  <a:srgbClr val="000066"/>
                </a:solidFill>
                <a:latin typeface="Arial"/>
              </a:rPr>
              <a:t>int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= 1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AO corr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5241960"/>
            <a:ext cx="464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rrected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MOMFDB correction using 100 raw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3080" y="492120"/>
            <a:ext cx="5472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gh-resolution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3C9-798D-4A19-8F2E-23406A0D94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pre_post_speckle.jpg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413080" y="492120"/>
            <a:ext cx="5472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gh-resolution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131-19FD-4B1A-BA5F-6E8C7718C9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591080" cy="4667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52920" y="1052640"/>
            <a:ext cx="4591080" cy="4667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050920" y="260280"/>
            <a:ext cx="5472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gh-resolution Polarimetric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A31-06BD-4A5C-9D94-9E9E09DE8E8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68880" y="404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695240" cy="6096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743200" y="660240"/>
            <a:ext cx="3454560" cy="1473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743200" y="2108160"/>
            <a:ext cx="3454560" cy="1473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2743200" y="3556080"/>
            <a:ext cx="3454560" cy="1473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2743200" y="5000760"/>
            <a:ext cx="3454560" cy="1473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6840" y="10332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ng-slit spectropolarime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00720" y="2852640"/>
            <a:ext cx="2519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2D spectro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are requ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(IFUS, fibers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ED4-4BC4-4C08-9475-77F9C1C5E5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69840" y="719280"/>
            <a:ext cx="7202520" cy="5851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058840" y="103320"/>
            <a:ext cx="60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mporal evolution (photosphe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A28-7553-4141-A8C2-2ADF0F285949}" type="slidenum">
              <a:t>9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70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3:12:26Z</dcterms:created>
  <dc:creator>lcavall</dc:creator>
  <dc:description/>
  <dc:language>en-US</dc:language>
  <cp:lastModifiedBy> </cp:lastModifiedBy>
  <dcterms:modified xsi:type="dcterms:W3CDTF">2009-10-12T12:12:15Z</dcterms:modified>
  <cp:revision>110</cp:revision>
  <dc:subject/>
  <dc:title>EST European Solar Telesc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