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D8A1-55CD-4529-BC23-AABF3FDE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9EA-08C2-404B-96C8-0812149E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DBAD-9B05-4161-AE05-C9A98BE4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A300-C503-4F70-A87A-6927A212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F8F-28A8-41A4-81D0-430E1CE2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022E-F324-4571-BA5C-370998BC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D18-60F5-4F46-95DB-5EF47A36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40A-E90B-4B2D-9F2A-B857309A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FC1B-A76B-4E19-AA1E-34046E40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05EE-1DA3-455F-9FF2-3E54BC8B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7727-EF3C-4DD2-9E39-B921E396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E483-738C-4CD7-90E7-7E824041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86F0-8A90-4300-A5A9-A0542C559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79280" y="1222200"/>
            <a:ext cx="8702640" cy="4839120"/>
            <a:chOff x="179280" y="1222200"/>
            <a:chExt cx="8702640" cy="4839120"/>
          </a:xfrm>
        </p:grpSpPr>
        <p:sp>
          <p:nvSpPr>
            <p:cNvPr id="44" name=""/>
            <p:cNvSpPr/>
            <p:nvPr/>
          </p:nvSpPr>
          <p:spPr>
            <a:xfrm>
              <a:off x="4203720" y="5075640"/>
              <a:ext cx="1597320" cy="9856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81680" y="3517920"/>
              <a:ext cx="1825560" cy="91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L/CDB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50720" y="1897200"/>
              <a:ext cx="1825560" cy="68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li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99880" y="1897200"/>
              <a:ext cx="2282040" cy="91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DB 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" name=""/>
            <p:cNvCxnSpPr>
              <a:stCxn id="45" idx="2"/>
              <a:endCxn id="44" idx="0"/>
            </p:cNvCxnSpPr>
            <p:nvPr/>
          </p:nvCxnSpPr>
          <p:spPr>
            <a:xfrm>
              <a:off x="4994280" y="4434480"/>
              <a:ext cx="7920" cy="951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9" name=""/>
            <p:cNvCxnSpPr>
              <a:stCxn id="46" idx="2"/>
              <a:endCxn id="45" idx="0"/>
            </p:cNvCxnSpPr>
            <p:nvPr/>
          </p:nvCxnSpPr>
          <p:spPr>
            <a:xfrm>
              <a:off x="2263320" y="2581200"/>
              <a:ext cx="2731320" cy="93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50" name=""/>
            <p:cNvCxnSpPr>
              <a:stCxn id="47" idx="2"/>
              <a:endCxn id="45" idx="0"/>
            </p:cNvCxnSpPr>
            <p:nvPr/>
          </p:nvCxnSpPr>
          <p:spPr>
            <a:xfrm flipH="1">
              <a:off x="4993920" y="2811600"/>
              <a:ext cx="2747160" cy="70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 flipH="1">
              <a:off x="408600" y="4667040"/>
              <a:ext cx="826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88360" y="3291840"/>
              <a:ext cx="826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9280" y="1222200"/>
              <a:ext cx="321336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 – Database cli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9280" y="3288600"/>
              <a:ext cx="413244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– Database Access Layer (D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9280" y="4667040"/>
              <a:ext cx="413244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 – Database eng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99320" y="2370960"/>
              <a:ext cx="22960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d-writ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min. inte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92640" y="2370960"/>
              <a:ext cx="183600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d-on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inte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0:53:13Z</dcterms:created>
  <dc:creator>Any Licensed User</dc:creator>
  <dc:description/>
  <dc:language>en-US</dc:language>
  <cp:lastModifiedBy>Any Licensed User</cp:lastModifiedBy>
  <dcterms:modified xsi:type="dcterms:W3CDTF">2002-11-18T10:59:20Z</dcterms:modified>
  <cp:revision>1</cp:revision>
  <dc:subject/>
  <dc:title>Slide 1</dc:title>
</cp:coreProperties>
</file>