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0584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20584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0584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20584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20584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20584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20584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BEA7-6FC7-4789-A598-EDBCBEE1A3FC}" type="slidenum">
              <a:rPr b="0" lang="fr-FR" sz="1200" spc="-1" strike="noStrike">
                <a:solidFill>
                  <a:srgbClr val="120584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left/down shows background inhomogeneities, coming from either too-low chopping frequency, either nodding with different optical parameters (field-stabiliz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lot : look only at blue curve : shows the increase of noise as a function of spatial scale. Pure gaussian noise would produce a flat blue curve a level=0.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pectra in various settings have different : FWHM (as shown) but also difference flux levels (uncertainties on flux calibration due to : 1) different airmasses/weather 2) centering of source in the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pectra in various settings have different : FWHM (as shown) but also difference flux levels (uncertainties on flux calibration due to : 1) different airmasses/weather 2) centering of source in the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 would consider this as a kind of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knots NE1/SW1 are probably ejected matter by central engine, confirmed by MIDI visibility (blue ellip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ntral orange point is the torus emission resolved by MI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green circle is the "extended" emission detected in MIDI visibility. VISIR allows to show that the extended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es in fact from a serie of kn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e strengthen here the ability of  VISIR to obtain separate spectra of SSCs. SPITZER 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CFF-AEDF-446B-B944-9308672E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C2A-A0C8-4515-A8A2-9490F31B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3CF-DCC2-4034-8FAE-2E11AF52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884-E75E-4BCF-A5C0-BFD9251B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62D-BAC5-46E6-8D69-6D0BC37C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F2D-B751-45EA-B913-A3EBA2DA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B48-8181-49F0-B17D-EA2B16EF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7AE-6436-4BBC-8C88-28A82DEE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1920"/>
            <a:ext cx="6019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C60-3C0B-4EF7-BFAC-816771CF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FE0-C126-4211-BCD7-5C72281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A6A-D88B-44EA-8289-B333F496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95A-71C8-4B1A-83F7-43A10F9F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20584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05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20584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12058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120584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120584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Comic Sans MS"/>
              </a:rPr>
              <a:t>E.Pantin &amp; R.Siebenmor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32280" y="657216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333399"/>
                </a:solidFill>
                <a:latin typeface="Arial"/>
              </a:rPr>
              <a:t>Science with the VLT in the ELT 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AE92-8857-4C41-B623-8F15BDF76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31080" y="76320"/>
            <a:ext cx="1236600" cy="663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6969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20584"/>
                </a:solidFill>
                <a:latin typeface="Comic Sans MS"/>
              </a:rPr>
              <a:t>The experience from VISIR and the design of an ELT mid-infrared instrument</a:t>
            </a: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AA4-66A5-412A-949D-10A65C466C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5256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20584"/>
                </a:solidFill>
                <a:latin typeface="Comic Sans MS"/>
              </a:rPr>
              <a:t>Large scale gradient ?</a:t>
            </a: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55640" y="2205000"/>
            <a:ext cx="2472480" cy="2521080"/>
            <a:chOff x="755640" y="2205000"/>
            <a:chExt cx="2472480" cy="25210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55640" y="2205000"/>
              <a:ext cx="236088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11080" y="2332080"/>
              <a:ext cx="113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Rounded MT Bold"/>
                </a:rPr>
                <a:t>+0.01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080" y="4181400"/>
              <a:ext cx="113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Rounded MT Bold"/>
                </a:rPr>
                <a:t>+2.24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58920" y="4181400"/>
              <a:ext cx="106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Rounded MT Bold"/>
                </a:rPr>
                <a:t>-0.44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37240" y="2332080"/>
              <a:ext cx="106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Rounded MT Bold"/>
                </a:rPr>
                <a:t>-1.80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213080" y="1628640"/>
            <a:ext cx="3059280" cy="3068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35280" y="5229000"/>
            <a:ext cx="5689440" cy="11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- Flat fielding  or 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- Nodding parameters: AO replay </a:t>
            </a:r>
            <a:r>
              <a:rPr b="0" lang="en-US" sz="2000" spc="-1" strike="noStrike">
                <a:solidFill>
                  <a:srgbClr val="120584"/>
                </a:solidFill>
                <a:latin typeface="Comic Sans MS"/>
              </a:rPr>
              <a:t>?</a:t>
            </a: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, …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755-6977-408C-A234-E9C1A420A1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20584"/>
                </a:solidFill>
                <a:latin typeface="Comic Sans MS"/>
              </a:rPr>
              <a:t>Chopping: background subtraction</a:t>
            </a:r>
            <a:endParaRPr b="0" lang="en-US" sz="32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5734080"/>
            <a:ext cx="7561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Chopp. frequency </a:t>
            </a:r>
            <a:r>
              <a:rPr b="0" lang="fr-FR" sz="2800" spc="-1" strike="noStrike">
                <a:solidFill>
                  <a:srgbClr val="120584"/>
                </a:solidFill>
                <a:latin typeface="Comic Sans MS"/>
              </a:rPr>
              <a:t>&lt;</a:t>
            </a: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 1 Hz     </a:t>
            </a:r>
            <a:r>
              <a:rPr b="0" lang="fr-FR" sz="3200" spc="-1" strike="noStrike">
                <a:solidFill>
                  <a:srgbClr val="120584"/>
                </a:solidFill>
                <a:latin typeface="Comic Sans MS"/>
              </a:rPr>
              <a:t>-&gt; </a:t>
            </a: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 increase of noise  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192720" cy="38210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652200" y="242100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0584"/>
                </a:solidFill>
                <a:latin typeface="Comic Sans MS"/>
              </a:rPr>
              <a:t>0.25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2637000"/>
            <a:ext cx="0" cy="158400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059280" y="2276640"/>
            <a:ext cx="217440" cy="288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276640"/>
            <a:ext cx="1368360" cy="1657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227664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1844640"/>
            <a:ext cx="115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63E-4774-4E48-91CE-BE39A5BAC4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5256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20584"/>
                </a:solidFill>
                <a:latin typeface="Comic Sans MS"/>
              </a:rPr>
              <a:t>VISIR:</a:t>
            </a:r>
            <a:br>
              <a:rPr sz="3200"/>
            </a:br>
            <a:r>
              <a:rPr b="0" lang="fr-FR" sz="3200" spc="-1" strike="noStrike">
                <a:solidFill>
                  <a:srgbClr val="120584"/>
                </a:solidFill>
                <a:latin typeface="Comic Sans MS"/>
              </a:rPr>
              <a:t>Low res spectroscopy</a:t>
            </a:r>
            <a:endParaRPr b="0" lang="en-US" sz="32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040360" cy="3781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77440" y="573408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Need:  N-band in 1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191628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1280" y="23018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Standard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DC0-0F4D-4091-8312-E690259EE5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54007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20584"/>
                </a:solidFill>
                <a:latin typeface="Comic Sans MS"/>
              </a:rPr>
              <a:t>Future detectors:</a:t>
            </a:r>
            <a:br>
              <a:rPr sz="3600"/>
            </a:br>
            <a:r>
              <a:rPr b="0" lang="fr-FR" sz="2800" spc="-1" strike="noStrike">
                <a:solidFill>
                  <a:srgbClr val="120584"/>
                </a:solidFill>
                <a:latin typeface="Comic Sans MS"/>
              </a:rPr>
              <a:t>Acquarius</a:t>
            </a:r>
            <a:endParaRPr b="0" lang="en-US" sz="28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420640"/>
            <a:ext cx="4897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1205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BLIP performance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1205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Larger format 1k x 1k 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1205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Pixel gain stability  ~10</a:t>
            </a:r>
            <a:r>
              <a:rPr b="0" lang="fr-FR" sz="2400" spc="-1" strike="noStrike" baseline="30000">
                <a:solidFill>
                  <a:srgbClr val="120584"/>
                </a:solidFill>
                <a:latin typeface="Comic Sans MS"/>
              </a:rPr>
              <a:t>-5</a:t>
            </a: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       </a:t>
            </a: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flat-fielding  ability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       </a:t>
            </a: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nodding only </a:t>
            </a:r>
            <a:r>
              <a:rPr b="0" lang="fr-FR" sz="1800" spc="-1" strike="noStrike">
                <a:solidFill>
                  <a:srgbClr val="120584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120584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4465440" cy="3259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804280" y="5516640"/>
            <a:ext cx="22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DI assembly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3AE-D2D2-4449-83F2-7C7DF48065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20584"/>
                </a:solidFill>
                <a:latin typeface="Comic Sans MS"/>
              </a:rPr>
              <a:t>Direct MIR imaging of sEarths </a:t>
            </a:r>
            <a:br>
              <a:rPr sz="3200"/>
            </a:br>
            <a:r>
              <a:rPr b="0" lang="fr-FR" sz="3200" spc="-1" strike="noStrike">
                <a:solidFill>
                  <a:srgbClr val="120584"/>
                </a:solidFill>
                <a:latin typeface="Comic Sans MS"/>
              </a:rPr>
              <a:t>at the ELT</a:t>
            </a:r>
            <a:endParaRPr b="0" lang="en-US" sz="32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4356000" cy="348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451640" y="2133720"/>
            <a:ext cx="936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2920" y="2252520"/>
            <a:ext cx="98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584"/>
                </a:solidFill>
                <a:latin typeface="Comic Sans MS"/>
              </a:rPr>
              <a:t>1L</a:t>
            </a:r>
            <a:r>
              <a:rPr b="0" lang="en-US" sz="2000" spc="-1" strike="noStrike" baseline="-25000">
                <a:solidFill>
                  <a:srgbClr val="120584"/>
                </a:solidFill>
                <a:latin typeface="Wingdings 2"/>
                <a:ea typeface="Wingdings 2"/>
              </a:rPr>
              <a:t></a:t>
            </a:r>
            <a:r>
              <a:rPr b="0" lang="en-US" sz="2000" spc="-1" strike="noStrike" baseline="-25000">
                <a:solidFill>
                  <a:srgbClr val="12058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120584"/>
                </a:solidFill>
                <a:latin typeface="Comic Sans MS"/>
              </a:rPr>
              <a:t>, 1r</a:t>
            </a:r>
            <a:r>
              <a:rPr b="0" lang="en-US" sz="2000" spc="-1" strike="noStrike" baseline="-25000">
                <a:solidFill>
                  <a:srgbClr val="120584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6680" y="40766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584"/>
                </a:solidFill>
                <a:latin typeface="Comic Sans MS"/>
              </a:rPr>
              <a:t>sensitivity limit in 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105-6A82-4515-AB93-27687BBB6D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20584"/>
                </a:solidFill>
                <a:latin typeface="Comic Sans MS"/>
              </a:rPr>
              <a:t>MIR imaging of sEarths</a:t>
            </a: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249800" cy="3395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1800360"/>
            <a:ext cx="4356000" cy="348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451640" y="2133720"/>
            <a:ext cx="936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2920" y="2252520"/>
            <a:ext cx="98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584"/>
                </a:solidFill>
                <a:latin typeface="Comic Sans MS"/>
              </a:rPr>
              <a:t>1L</a:t>
            </a:r>
            <a:r>
              <a:rPr b="0" lang="en-US" sz="2000" spc="-1" strike="noStrike" baseline="-25000">
                <a:solidFill>
                  <a:srgbClr val="120584"/>
                </a:solidFill>
                <a:latin typeface="Wingdings 2"/>
                <a:ea typeface="Wingdings 2"/>
              </a:rPr>
              <a:t></a:t>
            </a:r>
            <a:r>
              <a:rPr b="0" lang="en-US" sz="2000" spc="-1" strike="noStrike" baseline="-25000">
                <a:solidFill>
                  <a:srgbClr val="12058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120584"/>
                </a:solidFill>
                <a:latin typeface="Comic Sans MS"/>
              </a:rPr>
              <a:t>, 1r</a:t>
            </a:r>
            <a:r>
              <a:rPr b="0" lang="en-US" sz="2000" spc="-1" strike="noStrike" baseline="-25000">
                <a:solidFill>
                  <a:srgbClr val="120584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18E-2B6A-49B8-A4E4-F32690708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20584"/>
                </a:solidFill>
                <a:latin typeface="Comic Sans MS"/>
              </a:rPr>
              <a:t>MIR spectra of BD/Gplanets</a:t>
            </a: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6308640" cy="436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64000" y="4292640"/>
            <a:ext cx="1601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0584"/>
                </a:solidFill>
                <a:latin typeface="Comic Sans MS"/>
              </a:rPr>
              <a:t>BD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0584"/>
                </a:solidFill>
                <a:latin typeface="Comic Sans MS"/>
              </a:rPr>
              <a:t>Burrows et al.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02240" y="2852640"/>
            <a:ext cx="27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584"/>
                </a:solidFill>
                <a:latin typeface="Comic Sans MS"/>
              </a:rPr>
              <a:t>Resolution (D=10pc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584"/>
                </a:solidFill>
                <a:latin typeface="Comic Sans MS"/>
              </a:rPr>
              <a:t>JWST   ≥   35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584"/>
                </a:solidFill>
                <a:latin typeface="Comic Sans MS"/>
              </a:rPr>
              <a:t>MIDI    ≥     5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3CB-BEEA-46BB-81E6-E29B9D6FD1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20584"/>
                </a:solidFill>
                <a:latin typeface="Comic Sans MS"/>
              </a:rPr>
              <a:t>Lessons learned</a:t>
            </a: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1268280"/>
            <a:ext cx="822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Detectors</a:t>
            </a: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                      -&gt; gain stability/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eeing limited</a:t>
            </a: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               -&gt; AO needed in 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odding stability</a:t>
            </a: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          -&gt; active optics 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ELT contrast challenge</a:t>
            </a: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 -&gt; coronograph, phase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4529160"/>
            <a:ext cx="7993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&gt;&gt; Instrument design &lt;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Multi mode</a:t>
            </a:r>
            <a:r>
              <a:rPr b="0" lang="en-US" sz="2800" spc="-1" strike="noStrike">
                <a:solidFill>
                  <a:srgbClr val="120584"/>
                </a:solidFill>
                <a:latin typeface="Comic Sans MS"/>
              </a:rPr>
              <a:t>     viz.      i)  Imager      (+ low 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584"/>
                </a:solidFill>
                <a:latin typeface="Comic Sans MS"/>
              </a:rPr>
              <a:t>                                 </a:t>
            </a:r>
            <a:r>
              <a:rPr b="0" lang="en-US" sz="2800" spc="-1" strike="noStrike">
                <a:solidFill>
                  <a:srgbClr val="120584"/>
                </a:solidFill>
                <a:latin typeface="Comic Sans MS"/>
              </a:rPr>
              <a:t>ii) “sCRIRES’’  (high 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C66-63D1-48B2-BC11-67E88F3E3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20584"/>
                </a:solidFill>
                <a:latin typeface="Comic Sans MS"/>
              </a:rPr>
              <a:t>VLT Imager and Spectrometer for the InfraRed</a:t>
            </a:r>
            <a:r>
              <a:rPr b="1" lang="fr-FR" sz="4000" spc="-1" strike="noStrike">
                <a:solidFill>
                  <a:srgbClr val="120584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88000" y="1557360"/>
            <a:ext cx="227484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36360" y="2708280"/>
            <a:ext cx="655308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Diffraction-limited (seeing &lt; 0.8’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Comic Sans MS"/>
              </a:rPr>
              <a:t>Multi-mode</a:t>
            </a: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 instru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7800" indent="-295200">
              <a:lnSpc>
                <a:spcPct val="100000"/>
              </a:lnSpc>
              <a:buClr>
                <a:srgbClr val="1205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Imaging:          N(8-13 </a:t>
            </a:r>
            <a:r>
              <a:rPr b="0" lang="fr-FR" sz="2000" spc="-1" strike="noStrike">
                <a:solidFill>
                  <a:srgbClr val="120584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m) and Q(16-24 </a:t>
            </a:r>
            <a:r>
              <a:rPr b="0" lang="fr-FR" sz="2000" spc="-1" strike="noStrike">
                <a:solidFill>
                  <a:srgbClr val="120584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                           </a:t>
            </a: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18 filters (R=20 to 100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                            </a:t>
            </a: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pfov: 0.075’’ and 0.127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295200">
              <a:lnSpc>
                <a:spcPct val="100000"/>
              </a:lnSpc>
              <a:buClr>
                <a:srgbClr val="1205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295200">
              <a:lnSpc>
                <a:spcPct val="100000"/>
              </a:lnSpc>
              <a:buClr>
                <a:srgbClr val="1205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Spectroscopy:  LR (R=300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                            </a:t>
            </a: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MR (3000)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                            </a:t>
            </a: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HR (15000-30000 in Q or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0606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Commissionned in 2004 on Mel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A87-A287-4134-94FF-B0FA94DC2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20584"/>
                </a:solidFill>
                <a:latin typeface="Comic Sans MS"/>
              </a:rPr>
              <a:t>VISIR in context</a:t>
            </a:r>
            <a:endParaRPr b="0" lang="en-US" sz="32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3606840" cy="396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060640"/>
            <a:ext cx="360036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Spatial resolution and sensi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Spitzer:    ~10</a:t>
            </a:r>
            <a:r>
              <a:rPr b="0" lang="el-GR" sz="2000" spc="-1" strike="noStrike">
                <a:solidFill>
                  <a:srgbClr val="120584"/>
                </a:solidFill>
                <a:latin typeface="Comic Sans MS"/>
              </a:rPr>
              <a:t>μ</a:t>
            </a:r>
            <a:r>
              <a:rPr b="0" lang="en-US" sz="2000" spc="-1" strike="noStrike">
                <a:solidFill>
                  <a:srgbClr val="120584"/>
                </a:solidFill>
                <a:latin typeface="Comic Sans MS"/>
              </a:rPr>
              <a:t>J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VISIR:      ~1mJ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MIDI:        ~Jy  </a:t>
            </a:r>
            <a:r>
              <a:rPr b="0" lang="fr-FR" sz="1600" spc="-1" strike="noStrike">
                <a:solidFill>
                  <a:srgbClr val="120584"/>
                </a:solidFill>
                <a:latin typeface="Comic Sans MS"/>
              </a:rPr>
              <a:t>(Jaf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1280" y="5084640"/>
            <a:ext cx="35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0584"/>
                </a:solidFill>
                <a:latin typeface="Comic Sans MS"/>
              </a:rPr>
              <a:t>NGC 1068                     Poncelet et al. 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56000" y="3284280"/>
            <a:ext cx="1728720" cy="7308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340000" y="3284280"/>
            <a:ext cx="2952720" cy="6490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987640" y="3715920"/>
            <a:ext cx="2592360" cy="865080"/>
          </a:xfrm>
          <a:prstGeom prst="line">
            <a:avLst/>
          </a:prstGeom>
          <a:ln w="284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32A-F622-43BC-9F22-43DCD26B18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3738600" cy="3738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116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20584"/>
                </a:solidFill>
                <a:latin typeface="Comic Sans MS"/>
              </a:rPr>
              <a:t>SSCs in active galaxies</a:t>
            </a: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133720"/>
            <a:ext cx="335160" cy="0"/>
          </a:xfrm>
          <a:prstGeom prst="line">
            <a:avLst/>
          </a:prstGeom>
          <a:ln w="31680">
            <a:solidFill>
              <a:srgbClr val="f6f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51440" y="191628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6f63d"/>
                </a:solidFill>
                <a:latin typeface="Comic Sans MS"/>
              </a:rPr>
              <a:t>1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22480" y="148428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6f63d"/>
                </a:solidFill>
                <a:latin typeface="Comic Sans MS"/>
              </a:rPr>
              <a:t>Ne II  </a:t>
            </a:r>
            <a:r>
              <a:rPr b="0" i="1" lang="fr-FR" sz="1800" spc="-1" strike="noStrike">
                <a:solidFill>
                  <a:srgbClr val="f6f63d"/>
                </a:solidFill>
                <a:latin typeface="Comic Sans MS"/>
              </a:rPr>
              <a:t>12.8 µ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08464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20584"/>
                </a:solidFill>
                <a:latin typeface="Comic Sans MS"/>
              </a:rPr>
              <a:t>NGC1365                                 Galliano et 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492280"/>
            <a:ext cx="533520" cy="533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7960" y="24922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63d"/>
                </a:solidFill>
                <a:latin typeface="Comic Sans MS"/>
              </a:rPr>
              <a:t>M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13400" y="24922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63d"/>
                </a:solidFill>
                <a:latin typeface="Comic Sans MS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6800" y="2924280"/>
            <a:ext cx="3013200" cy="1938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55640" y="1003320"/>
            <a:ext cx="3092400" cy="1920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588000" y="2492280"/>
            <a:ext cx="533520" cy="533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4869000"/>
            <a:ext cx="41911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Cluster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20584"/>
                </a:solidFill>
                <a:latin typeface="Comic Sans MS"/>
              </a:rPr>
              <a:t>Age           ~   7 M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20584"/>
                </a:solidFill>
                <a:latin typeface="Comic Sans MS"/>
              </a:rPr>
              <a:t>Luminosity ~   5x10</a:t>
            </a:r>
            <a:r>
              <a:rPr b="0" lang="fr-FR" sz="1800" spc="-1" strike="noStrike" baseline="30000">
                <a:solidFill>
                  <a:srgbClr val="120584"/>
                </a:solidFill>
                <a:latin typeface="Comic Sans MS"/>
              </a:rPr>
              <a:t>9</a:t>
            </a:r>
            <a:r>
              <a:rPr b="0" lang="fr-FR" sz="1800" spc="-1" strike="noStrike">
                <a:solidFill>
                  <a:srgbClr val="120584"/>
                </a:solidFill>
                <a:latin typeface="Comic Sans MS"/>
              </a:rPr>
              <a:t> L</a:t>
            </a:r>
            <a:r>
              <a:rPr b="0" lang="fr-FR" sz="2400" spc="-1" strike="noStrike" baseline="-25000">
                <a:solidFill>
                  <a:srgbClr val="120584"/>
                </a:solidFill>
                <a:latin typeface="Wingdings 2"/>
                <a:ea typeface="Wingdings 2"/>
              </a:rPr>
              <a:t>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20584"/>
                </a:solidFill>
                <a:latin typeface="Comic Sans MS"/>
              </a:rPr>
              <a:t>Mass          ~   10</a:t>
            </a:r>
            <a:r>
              <a:rPr b="0" lang="fr-FR" sz="1800" spc="-1" strike="noStrike" baseline="30000">
                <a:solidFill>
                  <a:srgbClr val="120584"/>
                </a:solidFill>
                <a:latin typeface="Comic Sans MS"/>
              </a:rPr>
              <a:t>6</a:t>
            </a:r>
            <a:r>
              <a:rPr b="0" lang="fr-FR" sz="1800" spc="-1" strike="noStrike">
                <a:solidFill>
                  <a:srgbClr val="120584"/>
                </a:solidFill>
                <a:latin typeface="Comic Sans MS"/>
              </a:rPr>
              <a:t> M</a:t>
            </a:r>
            <a:r>
              <a:rPr b="0" lang="fr-FR" sz="2000" spc="-1" strike="noStrike" baseline="-25000">
                <a:solidFill>
                  <a:srgbClr val="120584"/>
                </a:solidFill>
                <a:latin typeface="Wingdings 2"/>
                <a:ea typeface="Wingdings 2"/>
              </a:rPr>
              <a:t>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90960" y="5805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Unresolved by Spit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62C-0B2B-4BE7-B3F0-243A47DFAB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95280" y="115920"/>
            <a:ext cx="576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20584"/>
                </a:solidFill>
                <a:latin typeface="Comic Sans MS"/>
              </a:rPr>
              <a:t>High-resolution spectroscopy </a:t>
            </a:r>
            <a:endParaRPr b="0" lang="en-US" sz="28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29080" y="5229360"/>
            <a:ext cx="6480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Circumnuclear velocity:               13km/s resolved</a:t>
            </a:r>
            <a:endParaRPr b="0" lang="en-US" sz="2000" spc="-1" strike="noStrike">
              <a:solidFill>
                <a:srgbClr val="120584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20584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Central black hole mass:   &lt; 5.5 x 10</a:t>
            </a:r>
            <a:r>
              <a:rPr b="0" lang="fr-FR" sz="2400" spc="-1" strike="noStrike" baseline="30000">
                <a:solidFill>
                  <a:srgbClr val="120584"/>
                </a:solidFill>
                <a:latin typeface="Comic Sans MS"/>
              </a:rPr>
              <a:t>9</a:t>
            </a: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M</a:t>
            </a:r>
            <a:r>
              <a:rPr b="0" lang="fr-FR" sz="2400" spc="-1" strike="noStrike" baseline="-25000">
                <a:solidFill>
                  <a:srgbClr val="120584"/>
                </a:solidFill>
                <a:latin typeface="Wingdings 2"/>
                <a:ea typeface="Wingdings 2"/>
              </a:rPr>
              <a:t>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2235240" cy="6121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68360" y="1268280"/>
            <a:ext cx="6191280" cy="3778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92360" y="1484280"/>
            <a:ext cx="11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N758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Ne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0080" y="414972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ld et al.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82692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2CF-CBE4-4390-B7A9-9AEE721B9A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1268280"/>
            <a:ext cx="3733920" cy="3213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8564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20584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120584"/>
                </a:solidFill>
                <a:latin typeface="Comic Sans MS"/>
              </a:rPr>
              <a:t>Protoplanetary disk  at 0.3’’</a:t>
            </a:r>
            <a:endParaRPr b="0" lang="en-US" sz="28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229360"/>
            <a:ext cx="43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20584"/>
                </a:solidFill>
                <a:latin typeface="Comic Sans MS"/>
              </a:rPr>
              <a:t>HD97048                                       Lagage et al., 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3500280"/>
            <a:ext cx="20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rtin-Zaidi et al., 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4496040" cy="376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5661000"/>
            <a:ext cx="44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Isophotes -&gt; flaring disk geome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4653000"/>
            <a:ext cx="35038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Warm </a:t>
            </a: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H</a:t>
            </a:r>
            <a:r>
              <a:rPr b="0" lang="fr-FR" sz="2400" spc="-1" strike="noStrike" baseline="-25000">
                <a:solidFill>
                  <a:srgbClr val="120584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gas: ~ 0.01 – 1 M</a:t>
            </a:r>
            <a:r>
              <a:rPr b="0" lang="fr-FR" sz="2000" spc="-1" strike="noStrike" baseline="-25000">
                <a:solidFill>
                  <a:srgbClr val="120584"/>
                </a:solidFill>
                <a:latin typeface="Comic Sans MS"/>
              </a:rPr>
              <a:t>J</a:t>
            </a: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                        </a:t>
            </a: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within 35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Disk age ~3M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1700280"/>
            <a:ext cx="431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1C0-4F11-450C-850A-30C785D014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20584"/>
                </a:solidFill>
                <a:latin typeface="Comic Sans MS"/>
              </a:rPr>
              <a:t>Low-mass companions</a:t>
            </a:r>
            <a:endParaRPr b="0" lang="en-US" sz="36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7920" y="1147680"/>
            <a:ext cx="6324480" cy="406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940360" y="5300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20584"/>
                </a:solidFill>
                <a:latin typeface="Comic Sans MS"/>
              </a:rPr>
              <a:t>Sterzik &amp; Pantin, 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5373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VISIR viz. Spitz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0584"/>
                </a:solidFill>
                <a:latin typeface="Comic Sans MS"/>
              </a:rPr>
              <a:t>Characterization of spectral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CA3-CF9E-438B-9B96-DFFBE5BBE6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640" y="259920"/>
            <a:ext cx="540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20584"/>
                </a:solidFill>
                <a:latin typeface="Comic Sans MS"/>
              </a:rPr>
              <a:t>VISIR detector:</a:t>
            </a:r>
            <a:br>
              <a:rPr sz="3200"/>
            </a:br>
            <a:r>
              <a:rPr b="0" lang="fr-FR" sz="3200" spc="-1" strike="noStrike">
                <a:solidFill>
                  <a:srgbClr val="120584"/>
                </a:solidFill>
                <a:latin typeface="Comic Sans MS"/>
              </a:rPr>
              <a:t> reads + cooling </a:t>
            </a:r>
            <a:endParaRPr b="0" lang="en-US" sz="32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4618080" cy="2962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3033720" cy="2441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5724360" y="3499920"/>
            <a:ext cx="0" cy="576360"/>
          </a:xfrm>
          <a:prstGeom prst="line">
            <a:avLst/>
          </a:prstGeom>
          <a:ln w="38160">
            <a:solidFill>
              <a:srgbClr val="1205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4941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1Hz feature </a:t>
            </a:r>
            <a:r>
              <a:rPr b="0" lang="en-US" sz="2400" spc="-1" strike="noStrike">
                <a:solidFill>
                  <a:srgbClr val="120584"/>
                </a:solidFill>
                <a:latin typeface="Comic Sans MS"/>
              </a:rPr>
              <a:t>from 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84720" y="3573360"/>
            <a:ext cx="0" cy="432000"/>
          </a:xfrm>
          <a:prstGeom prst="line">
            <a:avLst/>
          </a:prstGeom>
          <a:ln w="12600">
            <a:solidFill>
              <a:srgbClr val="1205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4A2-A6A9-48B0-9978-CF14489AE8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20584"/>
                </a:solidFill>
                <a:latin typeface="Comic Sans MS"/>
              </a:rPr>
              <a:t>Present VISIR detectors </a:t>
            </a:r>
            <a:endParaRPr b="0" lang="en-US" sz="3200" spc="-1" strike="noStrike">
              <a:solidFill>
                <a:srgbClr val="120584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2808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20584"/>
                </a:solidFill>
                <a:latin typeface="Comic Sans MS"/>
              </a:rPr>
              <a:t>Cosmetics:</a:t>
            </a:r>
            <a:endParaRPr b="0" lang="en-US" sz="2800" spc="-1" strike="noStrike">
              <a:solidFill>
                <a:srgbClr val="120584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20584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bad pixels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20584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20584"/>
                </a:solidFill>
                <a:latin typeface="Comic Sans MS"/>
              </a:rPr>
              <a:t>striping</a:t>
            </a:r>
            <a:endParaRPr b="0" lang="en-US" sz="2400" spc="-1" strike="noStrike">
              <a:solidFill>
                <a:srgbClr val="120584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5472000" cy="476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5950080"/>
            <a:ext cx="619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E32-4461-4FC4-9407-9676F9F58B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8:40:45Z</dcterms:created>
  <dc:creator>eric pantin</dc:creator>
  <dc:description/>
  <dc:language>en-US</dc:language>
  <cp:lastModifiedBy>ralf siebenmorgen</cp:lastModifiedBy>
  <dcterms:modified xsi:type="dcterms:W3CDTF">2007-10-10T08:11:37Z</dcterms:modified>
  <cp:revision>130</cp:revision>
  <dc:subject/>
  <dc:title>VISIR</dc:title>
</cp:coreProperties>
</file>