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1758680" y="196920"/>
            <a:ext cx="906480" cy="874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9280" y="9340920"/>
            <a:ext cx="1130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Ralf Siebenmorgen (ESO) et al.                                                                                                                            E-ELT DRM Workshop, May 20-21, 2008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55476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74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3120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6420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072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072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072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7340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6608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048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488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720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720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720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"/>
          </a:bodyPr>
          <a:p>
            <a:pPr marL="311976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55476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74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3120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6420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072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072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072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96960" y="368280"/>
            <a:ext cx="107949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o-planets in the mid-IR with METI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317600" y="2139840"/>
            <a:ext cx="914400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69960" y="628560"/>
            <a:ext cx="104648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Comic Sans MS"/>
              </a:rPr>
              <a:t>Exo-planets are brighter with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09240" y="1563840"/>
            <a:ext cx="12169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868320" indent="0">
              <a:buNone/>
              <a:tabLst>
                <a:tab algn="l" pos="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3333cc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increasing mass and stellar luminosity: ~ (M,L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5199"/>
              </a:spcBef>
              <a:buClr>
                <a:srgbClr val="3333cc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ecreasing age and semi-major axis:    ~ 1/(t,d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5199"/>
              </a:spcBef>
              <a:buClr>
                <a:srgbClr val="3333cc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lower mass stars tend to have lower mass plane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68320" indent="0">
              <a:lnSpc>
                <a:spcPct val="100000"/>
              </a:lnSpc>
              <a:spcBef>
                <a:spcPts val="5199"/>
              </a:spcBef>
              <a:buNone/>
              <a:tabLst>
                <a:tab algn="l" pos="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309600" y="7182000"/>
            <a:ext cx="1233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1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70 M stars within 6 pc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high probability to have young stars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(&lt;1Gyr) in the samp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317600" y="339840"/>
            <a:ext cx="8913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TIS simulations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525600" y="1563840"/>
            <a:ext cx="12102840" cy="66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0800" indent="-550800">
              <a:spcBef>
                <a:spcPts val="2599"/>
              </a:spcBef>
              <a:tabLst>
                <a:tab algn="l" pos="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550800" indent="-550800">
              <a:lnSpc>
                <a:spcPct val="100000"/>
              </a:lnSpc>
              <a:spcBef>
                <a:spcPts val="2599"/>
              </a:spcBef>
              <a:buClr>
                <a:srgbClr val="3333cc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hoton statistics: background noise limi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50800" indent="-550800">
              <a:lnSpc>
                <a:spcPct val="100000"/>
              </a:lnSpc>
              <a:spcBef>
                <a:spcPts val="2599"/>
              </a:spcBef>
              <a:buClr>
                <a:srgbClr val="3333cc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ased on AO-corrected E-ELT PSF provided by ESO Adaptive Optics group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50800" indent="-550800">
              <a:lnSpc>
                <a:spcPct val="100000"/>
              </a:lnSpc>
              <a:spcBef>
                <a:spcPts val="2599"/>
              </a:spcBef>
              <a:buClr>
                <a:srgbClr val="3333cc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SF variations: seeing 0.7’’ – 0.75’’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50800" indent="-550800">
              <a:lnSpc>
                <a:spcPct val="100000"/>
              </a:lnSpc>
              <a:spcBef>
                <a:spcPts val="2599"/>
              </a:spcBef>
              <a:buClr>
                <a:srgbClr val="3333cc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oes not yet include:</a:t>
            </a:r>
            <a:r>
              <a:rPr b="0" lang="en-US" sz="4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road-band PSF, water induced PSF variations, atmopsh. model of the ELT site, instrumental  aberrations, detectors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50800" indent="-55080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453960" y="8535960"/>
            <a:ext cx="12171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duals of PSF subtraction limits contrast-&gt;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ronagraph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114480"/>
            <a:ext cx="11606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oplanets in the mid-IR with METIS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</a:t>
            </a:r>
            <a:r>
              <a:rPr b="1" lang="en-US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maging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1492200"/>
            <a:ext cx="6350040" cy="59054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6215040" y="1492200"/>
            <a:ext cx="6789600" cy="5950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462" name=""/>
          <p:cNvSpPr/>
          <p:nvPr/>
        </p:nvSpPr>
        <p:spPr>
          <a:xfrm>
            <a:off x="2109960" y="19242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8807400" y="1924200"/>
            <a:ext cx="71928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69960" y="3220920"/>
            <a:ext cx="417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-dwar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=4pc, age = 1 Gy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o-planet: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AU, 1M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525600" y="7253280"/>
            <a:ext cx="11831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-ELT site selection crucial for mid-IR sensitivit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3046320" y="412920"/>
            <a:ext cx="835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o-planets in the mid-IR: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TIS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maging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>
            <a:off x="7078680" y="3005280"/>
            <a:ext cx="432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Gill Sans"/>
              </a:rPr>
              <a:t>Planet detection </a:t>
            </a:r>
            <a:r>
              <a:rPr b="0" lang="en-US" sz="2800" spc="-1" strike="noStrike">
                <a:solidFill>
                  <a:srgbClr val="3333cc"/>
                </a:solidFill>
                <a:latin typeface="Gill Sans"/>
              </a:rPr>
              <a:t>(4</a:t>
            </a:r>
            <a:r>
              <a:rPr b="0" lang="el-GR" sz="2800" spc="-1" strike="noStrike">
                <a:solidFill>
                  <a:srgbClr val="3333cc"/>
                </a:solidFill>
                <a:latin typeface="Gill Sans"/>
              </a:rPr>
              <a:t>σ</a:t>
            </a:r>
            <a:r>
              <a:rPr b="0" lang="en-US" sz="2800" spc="-1" strike="noStrike">
                <a:solidFill>
                  <a:srgbClr val="3333cc"/>
                </a:solidFill>
                <a:latin typeface="Gill Sans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Gill Sans"/>
              </a:rPr>
              <a:t>Paranal:   20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ill Sans"/>
              </a:rPr>
              <a:t>Macon:</a:t>
            </a:r>
            <a:r>
              <a:rPr b="0" lang="en-US" sz="3200" spc="-1" strike="noStrike">
                <a:solidFill>
                  <a:srgbClr val="3333cc"/>
                </a:solidFill>
                <a:latin typeface="Gill Sans"/>
              </a:rPr>
              <a:t>       </a:t>
            </a:r>
            <a:r>
              <a:rPr b="0" lang="en-US" sz="3200" spc="-1" strike="noStrike">
                <a:solidFill>
                  <a:srgbClr val="009999"/>
                </a:solidFill>
                <a:latin typeface="Gill Sans"/>
              </a:rPr>
              <a:t>1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324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53960" y="8548560"/>
            <a:ext cx="11125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hase mask = &gt; detection of lower mass plane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196920"/>
            <a:ext cx="9742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oplanets in the mid-IR: METIS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n-US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maging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>
            <a:off x="6070680" y="1554120"/>
            <a:ext cx="1136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237960" y="1204920"/>
            <a:ext cx="12644640" cy="7128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047960" y="3436920"/>
            <a:ext cx="140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fter PSF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ubtrac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2962080" y="199692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ar type star at 5p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65240" y="8693280"/>
            <a:ext cx="13004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METIS complementary wavelengths to EPIC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893960" y="1852560"/>
            <a:ext cx="9448560" cy="65660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380880" y="339840"/>
            <a:ext cx="12242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Arial"/>
              </a:rPr>
              <a:t>Exo-planets: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Arial"/>
              </a:rPr>
              <a:t>detection limits in N band low- 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Arial"/>
              </a:rPr>
              <a:t>  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Arial"/>
              </a:rPr>
              <a:t>resolution spectroscop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246320" y="4156200"/>
            <a:ext cx="68626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Arial"/>
              </a:rPr>
              <a:t>Follow-up on Exoplanets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69600" y="3317760"/>
            <a:ext cx="1000908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868320" indent="0">
              <a:buNone/>
              <a:tabLst>
                <a:tab algn="l" pos="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3333cc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cc"/>
                </a:solidFill>
                <a:latin typeface="Comic Sans MS"/>
              </a:rPr>
              <a:t>L-M-N band low-res spectro.: </a:t>
            </a: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  <a:p>
            <a:pPr marL="8683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4300" spc="-1" strike="noStrike">
                <a:solidFill>
                  <a:srgbClr val="3333cc"/>
                </a:solidFill>
                <a:latin typeface="Comic Sans MS"/>
              </a:rPr>
              <a:t>NH</a:t>
            </a:r>
            <a:r>
              <a:rPr b="0" lang="en-US" sz="43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4300" spc="-1" strike="noStrike">
                <a:solidFill>
                  <a:srgbClr val="3333cc"/>
                </a:solidFill>
                <a:latin typeface="Comic Sans MS"/>
              </a:rPr>
              <a:t>, PH</a:t>
            </a:r>
            <a:r>
              <a:rPr b="0" lang="en-US" sz="43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4300" spc="-1" strike="noStrike">
                <a:solidFill>
                  <a:srgbClr val="3333cc"/>
                </a:solidFill>
                <a:latin typeface="Comic Sans MS"/>
              </a:rPr>
              <a:t>, C</a:t>
            </a:r>
            <a:r>
              <a:rPr b="0" lang="en-US" sz="43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4300" spc="-1" strike="noStrike">
                <a:solidFill>
                  <a:srgbClr val="3333cc"/>
                </a:solidFill>
                <a:latin typeface="Comic Sans MS"/>
              </a:rPr>
              <a:t>H</a:t>
            </a:r>
            <a:r>
              <a:rPr b="0" lang="en-US" sz="43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4300" spc="-1" strike="noStrike">
                <a:solidFill>
                  <a:srgbClr val="3333cc"/>
                </a:solidFill>
                <a:latin typeface="Comic Sans MS"/>
              </a:rPr>
              <a:t>, CH</a:t>
            </a:r>
            <a:r>
              <a:rPr b="0" lang="en-US" sz="43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4300" spc="-1" strike="noStrike">
                <a:solidFill>
                  <a:srgbClr val="3333cc"/>
                </a:solidFill>
                <a:latin typeface="Comic Sans MS"/>
              </a:rPr>
              <a:t>, ...</a:t>
            </a: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5199"/>
              </a:spcBef>
              <a:buClr>
                <a:srgbClr val="3333cc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cc"/>
                </a:solidFill>
                <a:latin typeface="Comic Sans MS"/>
              </a:rPr>
              <a:t>High-resolution (R=50,000): </a:t>
            </a:r>
            <a:r>
              <a:rPr b="0" lang="en-US" sz="43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300" spc="-1" strike="noStrike">
                <a:solidFill>
                  <a:srgbClr val="3333cc"/>
                </a:solidFill>
                <a:latin typeface="Comic Sans MS"/>
              </a:rPr>
              <a:t>H</a:t>
            </a:r>
            <a:r>
              <a:rPr b="0" lang="en-US" sz="43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45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43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3765600" y="339840"/>
            <a:ext cx="8567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oplanets in the mid-IR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–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TIS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pectroscopy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3360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189240" y="844560"/>
            <a:ext cx="8421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Gill Sans"/>
              </a:rPr>
              <a:t>Typical observing sequence: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669600" y="2572920"/>
            <a:ext cx="12334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3333cc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Comic Sans MS"/>
              </a:rPr>
              <a:t>All observations use E-ELT facility AO system.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3333cc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Comic Sans MS"/>
              </a:rPr>
              <a:t>Imaging survey: typically 1h  N-band integration per star, burst mode, no optical de-rotation.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5199"/>
              </a:spcBef>
              <a:buClr>
                <a:srgbClr val="3333cc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Comic Sans MS"/>
              </a:rPr>
              <a:t>Imaging with 4-quadrant phase mask: additional tip-tilt correction might be required to stabilize star behind the mask to ~0.1 pixel (3 mas).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5199"/>
              </a:spcBef>
              <a:buClr>
                <a:srgbClr val="3333cc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Comic Sans MS"/>
              </a:rPr>
              <a:t>Spectroscopy (long-slit): typically a few hours of integration on brighter exo-planets.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57600" cy="21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37600" y="2715840"/>
            <a:ext cx="1260180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515960"/>
                <a:tab algn="l" pos="1778040"/>
                <a:tab algn="l" pos="1828800"/>
                <a:tab algn="l" pos="2133720"/>
                <a:tab algn="l" pos="2489040"/>
                <a:tab algn="l" pos="2743200"/>
                <a:tab algn="l" pos="2844720"/>
                <a:tab algn="l" pos="3200400"/>
                <a:tab algn="l" pos="3556080"/>
                <a:tab algn="l" pos="365760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3333cc"/>
                </a:solidFill>
                <a:latin typeface="Comic Sans MS"/>
                <a:ea typeface="Arial"/>
              </a:rPr>
              <a:t>-Science goal: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515960"/>
                <a:tab algn="l" pos="1778040"/>
                <a:tab algn="l" pos="1828800"/>
                <a:tab algn="l" pos="2133720"/>
                <a:tab algn="l" pos="2489040"/>
                <a:tab algn="l" pos="2743200"/>
                <a:tab algn="l" pos="2844720"/>
                <a:tab algn="l" pos="3200400"/>
                <a:tab algn="l" pos="3556080"/>
                <a:tab algn="l" pos="365760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Comic Sans MS"/>
                <a:ea typeface="Arial"/>
              </a:rPr>
              <a:t>survey nearby stars for exo-planets and study the physical and chemical properties of the exo-planets in the mid-IR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515960"/>
                <a:tab algn="l" pos="1778040"/>
                <a:tab algn="l" pos="1828800"/>
                <a:tab algn="l" pos="2133720"/>
                <a:tab algn="l" pos="2489040"/>
                <a:tab algn="l" pos="2743200"/>
                <a:tab algn="l" pos="2844720"/>
                <a:tab algn="l" pos="3200400"/>
                <a:tab algn="l" pos="3556080"/>
                <a:tab algn="l" pos="365760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515960"/>
                <a:tab algn="l" pos="1778040"/>
                <a:tab algn="l" pos="1828800"/>
                <a:tab algn="l" pos="2133720"/>
                <a:tab algn="l" pos="2489040"/>
                <a:tab algn="l" pos="2743200"/>
                <a:tab algn="l" pos="2844720"/>
                <a:tab algn="l" pos="3200400"/>
                <a:tab algn="l" pos="3556080"/>
                <a:tab algn="l" pos="365760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3333cc"/>
                </a:solidFill>
                <a:latin typeface="Comic Sans MS"/>
                <a:ea typeface="Arial"/>
              </a:rPr>
              <a:t>- E-ELT</a:t>
            </a:r>
            <a:r>
              <a:rPr b="0" lang="en-US" sz="3700" spc="-1" strike="noStrike">
                <a:solidFill>
                  <a:srgbClr val="3333cc"/>
                </a:solidFill>
                <a:latin typeface="Comic Sans MS"/>
                <a:ea typeface="Arial"/>
              </a:rPr>
              <a:t> site selection crucial for mid-IR sensitivity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51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515960"/>
                <a:tab algn="l" pos="1778040"/>
                <a:tab algn="l" pos="1828800"/>
                <a:tab algn="l" pos="2133720"/>
                <a:tab algn="l" pos="2489040"/>
                <a:tab algn="l" pos="2743200"/>
                <a:tab algn="l" pos="2844720"/>
                <a:tab algn="l" pos="3200400"/>
                <a:tab algn="l" pos="3556080"/>
                <a:tab algn="l" pos="365760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3333cc"/>
                </a:solidFill>
                <a:latin typeface="Comic Sans MS"/>
                <a:ea typeface="Arial"/>
              </a:rPr>
              <a:t>- METIS</a:t>
            </a:r>
            <a:r>
              <a:rPr b="0" lang="en-US" sz="3700" spc="-1" strike="noStrike">
                <a:solidFill>
                  <a:srgbClr val="3333cc"/>
                </a:solidFill>
                <a:latin typeface="Comic Sans MS"/>
                <a:ea typeface="Arial"/>
              </a:rPr>
              <a:t> complementary wavelength coverage to </a:t>
            </a:r>
            <a:r>
              <a:rPr b="0" i="1" lang="en-US" sz="3700" spc="-1" strike="noStrike">
                <a:solidFill>
                  <a:srgbClr val="3333cc"/>
                </a:solidFill>
                <a:latin typeface="Comic Sans MS"/>
                <a:ea typeface="Arial"/>
              </a:rPr>
              <a:t>EPIC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"/>
          <p:cNvSpPr/>
          <p:nvPr/>
        </p:nvSpPr>
        <p:spPr>
          <a:xfrm>
            <a:off x="3765600" y="628560"/>
            <a:ext cx="7345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xoplanets in the mid-IR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8144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1060560"/>
            <a:ext cx="13004640" cy="8280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101600" y="2139840"/>
            <a:ext cx="3576600" cy="28101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58800" y="503280"/>
            <a:ext cx="36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3333cc"/>
                </a:solidFill>
                <a:uFillTx/>
                <a:latin typeface="Comic Sans MS"/>
              </a:rPr>
              <a:t>The Team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strument baseline concept: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erformance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LIP, diffraction limited wavelength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3 - 13</a:t>
            </a:r>
            <a:r>
              <a:rPr b="0" lang="el-GR" sz="3200" spc="-1" strike="noStrike">
                <a:solidFill>
                  <a:srgbClr val="3333cc"/>
                </a:solidFill>
                <a:latin typeface="Comic Sans MS"/>
              </a:rPr>
              <a:t>μ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    (&lt;25 </a:t>
            </a:r>
            <a:r>
              <a:rPr b="0" lang="el-GR" sz="3200" spc="-1" strike="noStrike">
                <a:solidFill>
                  <a:srgbClr val="3333cc"/>
                </a:solidFill>
                <a:latin typeface="Comic Sans MS"/>
              </a:rPr>
              <a:t>μ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)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br>
              <a:rPr sz="32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tector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kx1k (N), 2kx2k (L,M)    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v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8’’x18’’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fov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0.017’’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pectro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U with R ~100,000 (+MR)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mager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lter + long slit R~25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ption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ronography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fferential imaging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olarimetry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arallel L-N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 ban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9597960" y="6316560"/>
            <a:ext cx="3144960" cy="24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101600" y="2932200"/>
            <a:ext cx="1113336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  <a:ea typeface="Arial"/>
              </a:rPr>
              <a:t>-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Arial"/>
              </a:rPr>
              <a:t>Survey nearby stars for exo-planets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Arial"/>
              </a:rPr>
              <a:t>- Study physical and chemical properties of exo-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Arial"/>
              </a:rPr>
              <a:t>planets in the mid-I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"/>
          <p:cNvSpPr/>
          <p:nvPr/>
        </p:nvSpPr>
        <p:spPr>
          <a:xfrm>
            <a:off x="3046320" y="196920"/>
            <a:ext cx="8569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Gill Sans"/>
              </a:rPr>
              <a:t>METIS science goal:</a:t>
            </a:r>
            <a:r>
              <a:rPr b="0" lang="en-US" sz="4200" spc="-1" strike="noStrike" u="sng">
                <a:solidFill>
                  <a:srgbClr val="3333cc"/>
                </a:solidFill>
                <a:uFillTx/>
                <a:latin typeface="Gill San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i="1" lang="en-US" sz="5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xo-planets in the mid-IR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"/>
          <p:cNvSpPr/>
          <p:nvPr/>
        </p:nvSpPr>
        <p:spPr>
          <a:xfrm>
            <a:off x="1246320" y="6172200"/>
            <a:ext cx="109458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Focus on nearby stars -&gt;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Detection limits versus brightness and angular separatio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Arial"/>
              </a:rPr>
              <a:t>  between star and exo-plan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65240" y="0"/>
            <a:ext cx="2952720" cy="23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173240" y="1563840"/>
            <a:ext cx="9648720" cy="756108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4557600" y="3436920"/>
            <a:ext cx="4785480" cy="1254960"/>
            <a:chOff x="4557600" y="3436920"/>
            <a:chExt cx="4785480" cy="1254960"/>
          </a:xfrm>
        </p:grpSpPr>
        <p:sp>
          <p:nvSpPr>
            <p:cNvPr id="432" name=""/>
            <p:cNvSpPr/>
            <p:nvPr/>
          </p:nvSpPr>
          <p:spPr>
            <a:xfrm>
              <a:off x="4557600" y="3436920"/>
              <a:ext cx="1737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38d3d"/>
                  </a:solidFill>
                  <a:latin typeface="Gill Sans"/>
                </a:rPr>
                <a:t>EPICS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52160" y="4021200"/>
              <a:ext cx="1690920" cy="67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6600"/>
                  </a:solidFill>
                  <a:latin typeface="Gill Sans"/>
                </a:rPr>
                <a:t>METIS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246320" y="268200"/>
            <a:ext cx="9779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ick your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.. – observing wavelength - 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>
            <a:off x="4465440" y="199692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765520" y="2413080"/>
            <a:ext cx="574020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omic Sans MS"/>
              </a:rPr>
              <a:t>V-NIR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Comic Sans MS"/>
              </a:rPr>
              <a:t>NACO-SDI-4QPM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Comic Sans MS"/>
              </a:rPr>
              <a:t>SPHE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r>
              <a:rPr b="0" i="1" lang="en-US" sz="3600" spc="-1" strike="noStrike">
                <a:solidFill>
                  <a:srgbClr val="009999"/>
                </a:solidFill>
                <a:latin typeface="Comic Sans MS"/>
              </a:rPr>
              <a:t>EPIC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6502320" y="2428920"/>
            <a:ext cx="2792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MIR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Comic Sans MS"/>
              </a:rPr>
              <a:t>VISI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Comic Sans MS"/>
              </a:rPr>
              <a:t>METIS </a:t>
            </a:r>
            <a:r>
              <a:rPr b="0" i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00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"/>
          <p:cNvSpPr/>
          <p:nvPr/>
        </p:nvSpPr>
        <p:spPr>
          <a:xfrm>
            <a:off x="1357200" y="888840"/>
            <a:ext cx="100713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tender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"/>
          <p:cNvSpPr/>
          <p:nvPr/>
        </p:nvSpPr>
        <p:spPr>
          <a:xfrm>
            <a:off x="1041480" y="7404120"/>
            <a:ext cx="9474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Arial"/>
              </a:rPr>
              <a:t>Science Goa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291960" y="8077320"/>
            <a:ext cx="126493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Arial"/>
              </a:rPr>
              <a:t>Survey nearby stars for exoplanets and study the physical and chemical properties of the exoplanet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66760" y="3213000"/>
            <a:ext cx="2425680" cy="16891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254160" y="4978440"/>
            <a:ext cx="2450880" cy="16891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14320" y="123840"/>
            <a:ext cx="107949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o-planets in the mid-IR with METIS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101600" y="1204920"/>
            <a:ext cx="10801440" cy="8136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101600" y="123840"/>
            <a:ext cx="9779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ick your star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.. -</a:t>
            </a:r>
            <a:r>
              <a:rPr b="0" lang="en-US" sz="5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The 6 pc sample - 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41240" y="268200"/>
            <a:ext cx="100713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5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he 6 pc sample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888840" y="2109960"/>
            <a:ext cx="11570040" cy="593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885960" y="8261280"/>
            <a:ext cx="114109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~ 90 stars, dominated by K- and M-dwar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1276200"/>
            <a:ext cx="8879040" cy="61930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8447040" y="3868560"/>
            <a:ext cx="374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106668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Gill Sans"/>
              </a:rPr>
              <a:t>80% of sample at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106668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Gill Sans"/>
              </a:rPr>
              <a:t>declination &lt; +30</a:t>
            </a:r>
            <a:r>
              <a:rPr b="0" lang="en-US" sz="3200" spc="-1" strike="noStrike" baseline="30000">
                <a:solidFill>
                  <a:srgbClr val="3333cc"/>
                </a:solidFill>
                <a:latin typeface="Gill San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598320" y="7540560"/>
            <a:ext cx="85186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~70 stars to be surveyed in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omic Sans MS"/>
              </a:rPr>
              <a:t>southern hemispher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>
            <a:off x="1965240" y="268200"/>
            <a:ext cx="56167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5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he 6pc sample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siebenm</cp:lastModifiedBy>
  <dcterms:modified xsi:type="dcterms:W3CDTF">2008-05-20T09:03:04Z</dcterms:modified>
  <cp:revision>26</cp:revision>
  <dc:subject/>
  <dc:title>Slide 1</dc:title>
</cp:coreProperties>
</file>